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8A51FA-F2B7-4A8F-A367-8812F9DFD1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7B2BED26-045B-4890-92A3-D19A06E16E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1E88595E-BAAC-4FAC-A353-D1BDD57D5D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C1CEC585-E918-446C-BDD6-D476EA63C0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747B28DE-FE29-494C-9A48-179DF9C1D2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C3143F93-A347-4F56-B330-A6CAB45435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04F979AD-1608-436F-B4CA-E08D0E142A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39CC6BD0-BBAA-417A-A7A7-EF9EFD3F58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001CE830-CE6A-45C6-93FA-05424482A5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F3B81EA-B743-4CDC-8DC8-650A691DC4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C8A62F57-E7D0-41F8-B923-05D1F54023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7C17000-F153-4A4C-AF26-0222AD6EDB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C8D53-265D-478D-A326-C6D5548367D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76640"/>
            <a:ext cx="8964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章  水、电解质、酸碱失衡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液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2205000"/>
            <a:ext cx="684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代谢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metabolic acidosis</a:t>
            </a:r>
            <a:r>
              <a:rPr b="0" lang="zh-CN" sz="4000" spc="-1" strike="noStrike">
                <a:solidFill>
                  <a:srgbClr val="046ca6"/>
                </a:solidFill>
                <a:latin typeface="华文新魏"/>
              </a:rPr>
              <a:t>）是指体内酸性物质产生或积聚过多引起的以血浆中</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a:t>
            </a:r>
            <a:r>
              <a:rPr b="0" lang="zh-CN" sz="4000" spc="-1" strike="noStrike">
                <a:solidFill>
                  <a:srgbClr val="046ca6"/>
                </a:solidFill>
                <a:latin typeface="华文新魏"/>
              </a:rPr>
              <a:t>原发性减少为主要特征的酸碱平衡紊乱，是临床上最常见的酸碱平衡失调</a:t>
            </a:r>
            <a:endParaRPr b="0" lang="en-US" sz="4000" spc="-1" strike="noStrike">
              <a:solidFill>
                <a:srgbClr val="046ca6"/>
              </a:solidFill>
              <a:latin typeface="华文新魏"/>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产生或摄入过多、肾排酸减少、碱性物质丢失过多。代谢性酸中毒是，由于</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 </a:t>
            </a:r>
            <a:r>
              <a:rPr b="0" lang="zh-CN" sz="3600" spc="-1" strike="noStrike">
                <a:solidFill>
                  <a:srgbClr val="046ca6"/>
                </a:solidFill>
                <a:latin typeface="华文新魏"/>
              </a:rPr>
              <a:t>减少，血浆中</a:t>
            </a:r>
            <a:r>
              <a:rPr b="0" lang="en-US" sz="3600" spc="-1" strike="noStrike">
                <a:solidFill>
                  <a:srgbClr val="046ca6"/>
                </a:solidFill>
                <a:latin typeface="华文新魏"/>
              </a:rPr>
              <a:t>H</a:t>
            </a:r>
            <a:r>
              <a:rPr b="0" lang="en-US" sz="3600" spc="-1" strike="noStrike" baseline="-25000">
                <a:solidFill>
                  <a:srgbClr val="046ca6"/>
                </a:solidFill>
                <a:latin typeface="华文新魏"/>
              </a:rPr>
              <a:t>2</a:t>
            </a:r>
            <a:r>
              <a:rPr b="0" lang="en-US" sz="3600" spc="-1" strike="noStrike">
                <a:solidFill>
                  <a:srgbClr val="046ca6"/>
                </a:solidFill>
                <a:latin typeface="华文新魏"/>
              </a:rPr>
              <a:t>CO</a:t>
            </a:r>
            <a:r>
              <a:rPr b="0" lang="en-US" sz="3600" spc="-1" strike="noStrike" baseline="-25000">
                <a:solidFill>
                  <a:srgbClr val="046ca6"/>
                </a:solidFill>
                <a:latin typeface="华文新魏"/>
              </a:rPr>
              <a:t>3</a:t>
            </a:r>
            <a:r>
              <a:rPr b="0" lang="zh-CN" sz="3600" spc="-1" strike="noStrike">
                <a:solidFill>
                  <a:srgbClr val="046ca6"/>
                </a:solidFill>
                <a:latin typeface="华文新魏"/>
              </a:rPr>
              <a:t>相对增加，机体通过肺和肾进行代偿调节</a:t>
            </a:r>
            <a:endParaRPr b="0" lang="en-US" sz="3600" spc="-1" strike="noStrike">
              <a:solidFill>
                <a:srgbClr val="046ca6"/>
              </a:solidFill>
              <a:latin typeface="华文新魏"/>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改变</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深快，呼出气体有酮味</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血管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枢神经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代偿期：血</a:t>
            </a:r>
            <a:r>
              <a:rPr b="0" lang="en-US" sz="2800" spc="-1" strike="noStrike">
                <a:solidFill>
                  <a:srgbClr val="046ca6"/>
                </a:solidFill>
                <a:latin typeface="华文新魏"/>
              </a:rPr>
              <a:t>pH</a:t>
            </a:r>
            <a:r>
              <a:rPr b="0" lang="zh-CN" sz="2800" spc="-1" strike="noStrike">
                <a:solidFill>
                  <a:srgbClr val="046ca6"/>
                </a:solidFill>
                <a:latin typeface="华文新魏"/>
              </a:rPr>
              <a:t>在正常范围内，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碱剩余（</a:t>
            </a:r>
            <a:r>
              <a:rPr b="0" lang="en-US" sz="2800" spc="-1" strike="noStrike">
                <a:solidFill>
                  <a:srgbClr val="046ca6"/>
                </a:solidFill>
                <a:latin typeface="华文新魏"/>
              </a:rPr>
              <a:t>BE</a:t>
            </a:r>
            <a:r>
              <a:rPr b="0" lang="zh-CN" sz="2800" spc="-1" strike="noStrike">
                <a:solidFill>
                  <a:srgbClr val="046ca6"/>
                </a:solidFill>
                <a:latin typeface="华文新魏"/>
              </a:rPr>
              <a:t>）和</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有一定程度降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失代偿期：血</a:t>
            </a:r>
            <a:r>
              <a:rPr b="0" lang="en-US" sz="2800" spc="-1" strike="noStrike">
                <a:solidFill>
                  <a:srgbClr val="046ca6"/>
                </a:solidFill>
                <a:latin typeface="华文新魏"/>
              </a:rPr>
              <a:t>pH&lt;7.35</a:t>
            </a:r>
            <a:r>
              <a:rPr b="0" lang="zh-CN" sz="2800" spc="-1" strike="noStrike">
                <a:solidFill>
                  <a:srgbClr val="046ca6"/>
                </a:solidFill>
                <a:latin typeface="华文新魏"/>
              </a:rPr>
              <a:t>，血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降低，</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正常</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 </a:t>
            </a:r>
            <a:endParaRPr b="0" lang="en-US" sz="3200" spc="-1" strike="noStrike">
              <a:solidFill>
                <a:srgbClr val="046ca6"/>
              </a:solidFill>
              <a:latin typeface="华文新魏"/>
            </a:endParaRPr>
          </a:p>
        </p:txBody>
      </p:sp>
      <p:sp>
        <p:nvSpPr>
          <p:cNvPr id="3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代谢性酸中毒的各种原因以及高血钾的严重程度</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频率增加，可使患者产生恐惧和焦虑。另外，乏力和眩晕可加重患者的不适感觉</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zh-CN" sz="3200" spc="-1" strike="noStrike">
                <a:solidFill>
                  <a:srgbClr val="046ca6"/>
                </a:solidFill>
                <a:latin typeface="华文新魏"/>
              </a:rPr>
              <a:t>的不足 </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口腔黏膜改变（的危险） </a:t>
            </a:r>
            <a:r>
              <a:rPr b="0" lang="en-US" sz="3600" spc="-1" strike="noStrike">
                <a:solidFill>
                  <a:srgbClr val="046ca6"/>
                </a:solidFill>
                <a:latin typeface="华文新魏"/>
              </a:rPr>
              <a:t> </a:t>
            </a:r>
            <a:r>
              <a:rPr b="0" lang="zh-CN" sz="3600" spc="-1" strike="noStrike">
                <a:solidFill>
                  <a:srgbClr val="046ca6"/>
                </a:solidFill>
                <a:latin typeface="华文新魏"/>
              </a:rPr>
              <a:t>与代谢性酸中毒呼吸深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心律失常、低钙或低钾血症</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碱性溶液，纠正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作好口腔护理，避免口腔黏膜干燥、损伤</a:t>
            </a:r>
            <a:endParaRPr b="0" lang="en-US" sz="3600" spc="-1" strike="noStrike">
              <a:solidFill>
                <a:srgbClr val="046ca6"/>
              </a:solidFill>
              <a:latin typeface="华文新魏"/>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2349360"/>
            <a:ext cx="640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代谢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年龄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重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活习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既往史</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metabolic alkalosis</a:t>
            </a:r>
            <a:r>
              <a:rPr b="0" lang="zh-CN" sz="4000" spc="-1" strike="noStrike">
                <a:solidFill>
                  <a:srgbClr val="046ca6"/>
                </a:solidFill>
                <a:latin typeface="华文新魏"/>
              </a:rPr>
              <a:t>）是指由于</a:t>
            </a:r>
            <a:r>
              <a:rPr b="0" lang="en-US" sz="4000" spc="-1" strike="noStrike">
                <a:solidFill>
                  <a:srgbClr val="046ca6"/>
                </a:solidFill>
                <a:latin typeface="华文新魏"/>
              </a:rPr>
              <a:t>H</a:t>
            </a:r>
            <a:r>
              <a:rPr b="0" lang="en-US" sz="4000" spc="-1" strike="noStrike" baseline="30000">
                <a:solidFill>
                  <a:srgbClr val="046ca6"/>
                </a:solidFill>
                <a:latin typeface="华文新魏"/>
              </a:rPr>
              <a:t>+ </a:t>
            </a:r>
            <a:r>
              <a:rPr b="0" lang="zh-CN" sz="4000" spc="-1" strike="noStrike">
                <a:solidFill>
                  <a:srgbClr val="046ca6"/>
                </a:solidFill>
                <a:latin typeface="华文新魏"/>
              </a:rPr>
              <a:t>丢失过多或细胞外液碱性物质过多引起的以血浆</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 </a:t>
            </a:r>
            <a:r>
              <a:rPr b="0" lang="zh-CN" sz="4000" spc="-1" strike="noStrike">
                <a:solidFill>
                  <a:srgbClr val="046ca6"/>
                </a:solidFill>
                <a:latin typeface="华文新魏"/>
              </a:rPr>
              <a:t>原发性增高为特征的酸碱平衡紊乱</a:t>
            </a:r>
            <a:endParaRPr b="0" lang="en-US" sz="40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丢失过多、碱性物质输入过多、利尿剂的应用、低钾血症等</a:t>
            </a: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有时可有呼吸变浅变慢，或神经精神方面的异常，如谵妄、精神错乱或嗜睡等。严重时，可因脑和其他器官的代谢障碍而发生昏迷。可伴低钾血症、低钙血症表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偿期：</a:t>
            </a:r>
            <a:r>
              <a:rPr b="0" lang="en-US" sz="3200" spc="-1" strike="noStrike">
                <a:solidFill>
                  <a:srgbClr val="046ca6"/>
                </a:solidFill>
                <a:latin typeface="华文新魏"/>
              </a:rPr>
              <a:t>pH</a:t>
            </a:r>
            <a:r>
              <a:rPr b="0" lang="zh-CN" sz="3200" spc="-1" strike="noStrike">
                <a:solidFill>
                  <a:srgbClr val="046ca6"/>
                </a:solidFill>
                <a:latin typeface="华文新魏"/>
              </a:rPr>
              <a:t>可在正常范围内，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和碱剩余均有一定程度增高；</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失代偿期：</a:t>
            </a:r>
            <a:r>
              <a:rPr b="0" lang="en-US" sz="3200" spc="-1" strike="noStrike">
                <a:solidFill>
                  <a:srgbClr val="046ca6"/>
                </a:solidFill>
                <a:latin typeface="华文新魏"/>
              </a:rPr>
              <a:t>pH</a:t>
            </a:r>
            <a:r>
              <a:rPr b="0" lang="zh-CN" sz="3200" spc="-1" strike="noStrike">
                <a:solidFill>
                  <a:srgbClr val="046ca6"/>
                </a:solidFill>
                <a:latin typeface="华文新魏"/>
              </a:rPr>
              <a:t>和</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明显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a:t>
            </a:r>
            <a:endParaRPr b="0" lang="en-US" sz="32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与代谢性碱中毒相关的因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严重时，可影响患者意识状态，家属常见焦虑、恐惧心理，担心发生意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与</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予</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代谢性碱中毒导致的意识障碍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低钾血症、低钙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纠正碱中毒的药物</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保护，避免意外损伤</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应用含钙、钾药物</a:t>
            </a:r>
            <a:endParaRPr b="0" lang="en-US" sz="3600" spc="-1" strike="noStrike">
              <a:solidFill>
                <a:srgbClr val="046ca6"/>
              </a:solidFill>
              <a:latin typeface="华文新魏"/>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15640" y="2276640"/>
            <a:ext cx="6551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呼吸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与家属对疾病及其伴随症状的认知程度、心理反应和承受能力</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量的减少</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a:t>
            </a:r>
            <a:r>
              <a:rPr b="0" lang="en-US" sz="4000" spc="-1" strike="noStrike">
                <a:solidFill>
                  <a:srgbClr val="046ca6"/>
                </a:solidFill>
                <a:latin typeface="华文新魏"/>
              </a:rPr>
              <a:t>respiratory acidosis</a:t>
            </a:r>
            <a:r>
              <a:rPr b="0" lang="zh-CN" sz="4000" spc="-1" strike="noStrike">
                <a:solidFill>
                  <a:srgbClr val="046ca6"/>
                </a:solidFill>
                <a:latin typeface="华文新魏"/>
              </a:rPr>
              <a:t>）是指由于肺泡通气和换气功能障碍，不能充分排出体内的</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而出现的以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潴留、血浆</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增高为特征的酸碱平衡紊乱，又称高碳酸血症</a:t>
            </a:r>
            <a:endParaRPr b="0" lang="en-US" sz="4000" spc="-1" strike="noStrike">
              <a:solidFill>
                <a:srgbClr val="046ca6"/>
              </a:solidFill>
              <a:latin typeface="华文新魏"/>
            </a:endParaRPr>
          </a:p>
        </p:txBody>
      </p:sp>
      <p:sp>
        <p:nvSpPr>
          <p:cNvPr id="4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各种原因导致的呼吸中枢抑制、胸部活动受限、呼吸道阻塞或肺部疾病、呼吸机使用不当等</a:t>
            </a:r>
            <a:endParaRPr b="0" lang="en-US" sz="3600" spc="-1" strike="noStrike">
              <a:solidFill>
                <a:srgbClr val="046ca6"/>
              </a:solidFill>
              <a:latin typeface="华文新魏"/>
            </a:endParaRPr>
          </a:p>
        </p:txBody>
      </p:sp>
      <p:sp>
        <p:nvSpPr>
          <p:cNvPr id="4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出现呼吸困难、胸闷、气促、发绀、头痛、谵妄甚至昏迷。</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降低、</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增高，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可正常。</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影响患者通气、换气功能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因呼吸困难、胸闷、头痛等，可影响患者休息，患者常见焦虑、急躁心理。</a:t>
            </a:r>
            <a:endParaRPr b="0" lang="en-US" sz="3200" spc="-1" strike="noStrike">
              <a:solidFill>
                <a:srgbClr val="046ca6"/>
              </a:solidFill>
              <a:latin typeface="华文新魏"/>
            </a:endParaRPr>
          </a:p>
        </p:txBody>
      </p:sp>
      <p:sp>
        <p:nvSpPr>
          <p:cNvPr id="4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改善肺通气，如解除呼吸道梗阻、使用呼吸兴奋剂等，必要时进行气管插管或气管切开。</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酸中毒者，适当给予氨基丁三醇，可直接中和碳酸</a:t>
            </a:r>
            <a:endParaRPr b="0" lang="en-US" sz="3200" spc="-1" strike="noStrike">
              <a:solidFill>
                <a:srgbClr val="046ca6"/>
              </a:solidFill>
              <a:latin typeface="华文新魏"/>
            </a:endParaRPr>
          </a:p>
        </p:txBody>
      </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呼吸性酸中毒引起的呼吸困难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监测患者的呼吸状况，评估呼吸困难的程度；监测患者的生命体征、动脉血气及血清电解质</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改善通气</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除呼吸道梗阻，低流量吸氧；鼓励患者深呼吸，有效咳嗽；积极做好气管插管和气管切开的准备</a:t>
            </a:r>
            <a:endParaRPr b="0" lang="en-US" sz="3200" spc="-1" strike="noStrike">
              <a:solidFill>
                <a:srgbClr val="046ca6"/>
              </a:solidFill>
              <a:latin typeface="华文新魏"/>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流量吸氧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高浓度吸氧可减弱呼吸中枢对缺氧的敏感性，使呼吸更抑制，故吸入的氧浓度不可过高。</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使用氨丁三醇时，若剂量过大、注射过快可抑制呼吸，同时因生成碳酸氢盐，经肾排出可加重肾负担，应给予重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呼吸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respiratory alkalosis</a:t>
            </a:r>
            <a:r>
              <a:rPr b="0" lang="zh-CN" sz="4000" spc="-1" strike="noStrike">
                <a:solidFill>
                  <a:srgbClr val="046ca6"/>
                </a:solidFill>
                <a:latin typeface="华文新魏"/>
              </a:rPr>
              <a:t>）是指由于肺泡通气过度，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排出过多所引起的以血浆中</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减少为特征的酸碱平衡紊乱，又称低碳酸血症</a:t>
            </a:r>
            <a:endParaRPr b="0" lang="en-US" sz="4000" spc="-1" strike="noStrike">
              <a:solidFill>
                <a:srgbClr val="046ca6"/>
              </a:solidFill>
              <a:latin typeface="华文新魏"/>
            </a:endParaRPr>
          </a:p>
        </p:txBody>
      </p:sp>
      <p:sp>
        <p:nvSpPr>
          <p:cNvPr id="4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消化液或体液大量丢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酸碱平衡失调，低钾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凡换气过度都可引起呼吸性碱中毒，见于癔症、颅脑损伤、高热、严重创伤或感染、肝衰竭、使用呼吸机不当等</a:t>
            </a:r>
            <a:endParaRPr b="0" lang="en-US" sz="3600" spc="-1" strike="noStrike">
              <a:solidFill>
                <a:srgbClr val="046ca6"/>
              </a:solidFill>
              <a:latin typeface="华文新魏"/>
            </a:endParaRPr>
          </a:p>
        </p:txBody>
      </p:sp>
      <p:sp>
        <p:nvSpPr>
          <p:cNvPr id="4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患者可有呼吸急促的表现；较重者可出现眩晕、手足和口周麻木及针刺感、肌震颤、手足抽搐，伴有心率加快；危重患者发生急性呼吸性碱中毒提示预后不良</a:t>
            </a:r>
            <a:endParaRPr b="0" lang="en-US" sz="3200" spc="-1" strike="noStrike">
              <a:solidFill>
                <a:srgbClr val="046ca6"/>
              </a:solidFill>
              <a:latin typeface="华文新魏"/>
            </a:endParaRPr>
          </a:p>
        </p:txBody>
      </p:sp>
      <p:sp>
        <p:nvSpPr>
          <p:cNvPr id="4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和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导致通气过度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见焦虑、急躁心理</a:t>
            </a:r>
            <a:endParaRPr b="0" lang="en-US" sz="3200" spc="-1" strike="noStrike">
              <a:solidFill>
                <a:srgbClr val="046ca6"/>
              </a:solidFill>
              <a:latin typeface="华文新魏"/>
            </a:endParaRPr>
          </a:p>
        </p:txBody>
      </p:sp>
      <p:sp>
        <p:nvSpPr>
          <p:cNvPr id="4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纸袋罩住口鼻，以增加</a:t>
            </a:r>
            <a:r>
              <a:rPr b="0" lang="en-US" sz="2800" spc="-1" strike="noStrike">
                <a:solidFill>
                  <a:srgbClr val="046ca6"/>
                </a:solidFill>
                <a:latin typeface="华文新魏"/>
              </a:rPr>
              <a:t>CO</a:t>
            </a:r>
            <a:r>
              <a:rPr b="0" lang="en-US" sz="2800" spc="-1" strike="noStrike" baseline="-25000">
                <a:solidFill>
                  <a:srgbClr val="046ca6"/>
                </a:solidFill>
                <a:latin typeface="华文新魏"/>
              </a:rPr>
              <a:t>2</a:t>
            </a:r>
            <a:r>
              <a:rPr b="0" lang="zh-CN" sz="2800" spc="-1" strike="noStrike">
                <a:solidFill>
                  <a:srgbClr val="046ca6"/>
                </a:solidFill>
                <a:latin typeface="华文新魏"/>
              </a:rPr>
              <a:t>的吸入，或吸入</a:t>
            </a:r>
            <a:r>
              <a:rPr b="0" lang="en-US" sz="2800" spc="-1" strike="noStrike">
                <a:solidFill>
                  <a:srgbClr val="046ca6"/>
                </a:solidFill>
                <a:latin typeface="华文新魏"/>
              </a:rPr>
              <a:t>5% CO</a:t>
            </a:r>
            <a:r>
              <a:rPr b="0" lang="en-US" sz="2800" spc="-1" strike="noStrike" baseline="-25000">
                <a:solidFill>
                  <a:srgbClr val="046ca6"/>
                </a:solidFill>
                <a:latin typeface="华文新魏"/>
              </a:rPr>
              <a:t>2</a:t>
            </a:r>
            <a:r>
              <a:rPr b="0" lang="zh-CN" sz="2800" spc="-1" strike="noStrike">
                <a:solidFill>
                  <a:srgbClr val="046ca6"/>
                </a:solidFill>
                <a:latin typeface="华文新魏"/>
              </a:rPr>
              <a:t>的</a:t>
            </a:r>
            <a:r>
              <a:rPr b="0" lang="en-US" sz="2800" spc="-1" strike="noStrike">
                <a:solidFill>
                  <a:srgbClr val="046ca6"/>
                </a:solidFill>
                <a:latin typeface="华文新魏"/>
              </a:rPr>
              <a:t>O</a:t>
            </a:r>
            <a:r>
              <a:rPr b="0" lang="en-US" sz="2800" spc="-1" strike="noStrike" baseline="-25000">
                <a:solidFill>
                  <a:srgbClr val="046ca6"/>
                </a:solidFill>
                <a:latin typeface="华文新魏"/>
              </a:rPr>
              <a:t>2</a:t>
            </a:r>
            <a:r>
              <a:rPr b="0" lang="zh-CN" sz="2800" spc="-1" strike="noStrike">
                <a:solidFill>
                  <a:srgbClr val="046ca6"/>
                </a:solidFill>
                <a:latin typeface="华文新魏"/>
              </a:rPr>
              <a:t>，从而增加血液</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机应用不当者应调整呼吸机参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精神通气过度者，应用镇静剂</a:t>
            </a:r>
            <a:endParaRPr b="0" lang="en-US" sz="2800" spc="-1" strike="noStrike">
              <a:solidFill>
                <a:srgbClr val="046ca6"/>
              </a:solidFill>
              <a:latin typeface="华文新魏"/>
            </a:endParaRPr>
          </a:p>
        </p:txBody>
      </p:sp>
      <p:sp>
        <p:nvSpPr>
          <p:cNvPr id="4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过度通气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积极控制原发病，消除危险因素，维持正常的气体交换型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病情监测，定时监测患者的生命体征、出入量、意识状态、动脉血气分析结果等，出现异常及时通知医生，同时注意减少受伤的危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深呼吸或用纸袋呼吸，做好心理护理。</a:t>
            </a:r>
            <a:endParaRPr b="0" lang="en-US" sz="3200" spc="-1" strike="noStrike">
              <a:solidFill>
                <a:srgbClr val="046ca6"/>
              </a:solidFill>
              <a:latin typeface="华文新魏"/>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本章小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等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急性丢失以及体液大量丢失。既有缺水表现又有缺钠表现。在处理原发病基础上，补充平衡盐或等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持续性丧失、创面大量渗液、使用排钠利尿剂、治疗等渗性缺水不当。缺钠程度不同，患者表现各异，休克出现早。在处理原发病基础上，补充等渗盐水或高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丢失过多和（或）摄入不足。缺水程度不同，患者表现各异。在处理原发病基础上，补充水或低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治疗原发疾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种类：遵医嘱给予等渗溶液，并适当补充钾盐</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水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摄入过多和（或）排出减少。急性水中毒可导致脑水肿或肺水肿。在处理原发病基础上，利尿脱水治疗。应注意限制摄水，密切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摄入量不足、钾排出过多、细胞内钾分布异常等。肌无力为早期表现，可合并酸碱失衡，治疗以补钾为主，护理中注意补钾的合理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钾摄入过多、排出减少以及钾分布异常。主要表现神经肌肉传导障碍，严重可导致呼吸抑制和心脏停搏，应关注心电图表现。治疗包括消除病因、停钾、抗钾和降钾。护理中关注病情变化，及时处理心脏停搏。</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包括酸性物质产生或摄入过多、肾排酸减少、碱性物质丢失过多。呼吸深快是患者最突出的表现，重症代谢性酸中毒患者需要输注碱性溶液。应注意正确使用碱性溶液。</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有酸性物质丢失过多、碱性物质输入过多、利尿剂的应用、低钾血症等。呼吸浅慢，并有神志改变，可伴低钾血症、低钙血症。重者给予酸性液输注。应注意滴速，以免造成溶血等不良反应。</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和换气功能障碍导致。临床表现不典型。应治疗原发病，改善肺通气。注意病情观察、低流量吸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过度导致。一般无明显症状。积极治疗原发病，并增加</a:t>
            </a:r>
            <a:r>
              <a:rPr b="0" lang="en-US" sz="3600" spc="-1" strike="noStrike">
                <a:solidFill>
                  <a:srgbClr val="046ca6"/>
                </a:solidFill>
                <a:latin typeface="华文新魏"/>
              </a:rPr>
              <a:t>CO</a:t>
            </a:r>
            <a:r>
              <a:rPr b="0" lang="en-US" sz="3600" spc="-1" strike="noStrike" baseline="-25000">
                <a:solidFill>
                  <a:srgbClr val="046ca6"/>
                </a:solidFill>
                <a:latin typeface="华文新魏"/>
              </a:rPr>
              <a:t>2</a:t>
            </a:r>
            <a:r>
              <a:rPr b="0" lang="zh-CN" sz="3600" spc="-1" strike="noStrike">
                <a:solidFill>
                  <a:srgbClr val="046ca6"/>
                </a:solidFill>
                <a:latin typeface="华文新魏"/>
              </a:rPr>
              <a:t>的吸入。注意呼吸方法指导。</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4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0</a:t>
            </a:r>
            <a:r>
              <a:rPr b="0" lang="zh-CN" sz="3600" spc="-1" strike="noStrike">
                <a:solidFill>
                  <a:srgbClr val="046ca6"/>
                </a:solidFill>
                <a:latin typeface="华文新魏"/>
              </a:rPr>
              <a:t>岁。因频繁呕吐、腹泻出现头晕、乏力、尿少就诊。体检：脉搏</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眼窝凹陷，皮肤黏膜干燥、弹性差。血清钠</a:t>
            </a:r>
            <a:r>
              <a:rPr b="0" lang="en-US" sz="3600" spc="-1" strike="noStrike">
                <a:solidFill>
                  <a:srgbClr val="046ca6"/>
                </a:solidFill>
                <a:latin typeface="华文新魏"/>
              </a:rPr>
              <a:t>138mmol/L</a:t>
            </a:r>
            <a:r>
              <a:rPr b="0" lang="zh-CN" sz="3600" spc="-1" strike="noStrike">
                <a:solidFill>
                  <a:srgbClr val="046ca6"/>
                </a:solidFill>
                <a:latin typeface="华文新魏"/>
              </a:rPr>
              <a:t>，血钾</a:t>
            </a:r>
            <a:r>
              <a:rPr b="0" lang="en-US" sz="3600" spc="-1" strike="noStrike">
                <a:solidFill>
                  <a:srgbClr val="046ca6"/>
                </a:solidFill>
                <a:latin typeface="华文新魏"/>
              </a:rPr>
              <a:t>3.4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目前存在哪种水电解质失衡？目前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有哪些？主要护理措施有哪些？</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49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频繁呕吐、腹泻导致消化液丢失而出现等渗性缺水、低钾血症。目前血清钠</a:t>
            </a:r>
            <a:r>
              <a:rPr b="0" lang="en-US" sz="2800" spc="-1" strike="noStrike">
                <a:solidFill>
                  <a:srgbClr val="046ca6"/>
                </a:solidFill>
                <a:latin typeface="华文新魏"/>
              </a:rPr>
              <a:t>138mmol/L</a:t>
            </a:r>
            <a:r>
              <a:rPr b="0" lang="zh-CN" sz="2800" spc="-1" strike="noStrike">
                <a:solidFill>
                  <a:srgbClr val="046ca6"/>
                </a:solidFill>
                <a:latin typeface="华文新魏"/>
              </a:rPr>
              <a:t>，血钾</a:t>
            </a:r>
            <a:r>
              <a:rPr b="0" lang="en-US" sz="2800" spc="-1" strike="noStrike">
                <a:solidFill>
                  <a:srgbClr val="046ca6"/>
                </a:solidFill>
                <a:latin typeface="华文新魏"/>
              </a:rPr>
              <a:t>3.4mmol/L</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呕吐、腹泻有关）、疲乏（与血钾降低、失钠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应处理原发疾病、纠正体液量不足及钾不足。故应做好补液护理以及补钾护理，同时密切观察病情变化。</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4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5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因急性腹膜炎住院。体温</a:t>
            </a:r>
            <a:r>
              <a:rPr b="0" lang="en-US" sz="3600" spc="-1" strike="noStrike">
                <a:solidFill>
                  <a:srgbClr val="046ca6"/>
                </a:solidFill>
                <a:latin typeface="华文新魏"/>
              </a:rPr>
              <a:t>40</a:t>
            </a:r>
            <a:r>
              <a:rPr b="0" lang="zh-CN" sz="3600" spc="-1" strike="noStrike">
                <a:solidFill>
                  <a:srgbClr val="046ca6"/>
                </a:solidFill>
                <a:latin typeface="华文新魏"/>
              </a:rPr>
              <a:t>℃</a:t>
            </a:r>
            <a:r>
              <a:rPr b="0" lang="zh-CN" sz="3600" spc="-1" strike="noStrike">
                <a:solidFill>
                  <a:srgbClr val="046ca6"/>
                </a:solidFill>
                <a:latin typeface="华文新魏"/>
              </a:rPr>
              <a:t>，脉搏</a:t>
            </a:r>
            <a:r>
              <a:rPr b="0" lang="en-US" sz="3600" spc="-1" strike="noStrike">
                <a:solidFill>
                  <a:srgbClr val="046ca6"/>
                </a:solidFill>
                <a:latin typeface="华文新魏"/>
              </a:rPr>
              <a:t>11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7</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呼出气体有烂苹果味。血气分析示：</a:t>
            </a:r>
            <a:r>
              <a:rPr b="0" lang="en-US" sz="3600" spc="-1" strike="noStrike">
                <a:solidFill>
                  <a:srgbClr val="046ca6"/>
                </a:solidFill>
                <a:latin typeface="华文新魏"/>
              </a:rPr>
              <a:t>pH 7.31</a:t>
            </a:r>
            <a:r>
              <a:rPr b="0" lang="zh-CN" sz="3600" spc="-1" strike="noStrike">
                <a:solidFill>
                  <a:srgbClr val="046ca6"/>
                </a:solidFill>
                <a:latin typeface="华文新魏"/>
              </a:rPr>
              <a:t>，</a:t>
            </a:r>
            <a:r>
              <a:rPr b="0" lang="en-US" sz="3600" spc="-1" strike="noStrike">
                <a:solidFill>
                  <a:srgbClr val="046ca6"/>
                </a:solidFill>
                <a:latin typeface="华文新魏"/>
              </a:rPr>
              <a:t>BE-10mmol/L</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zh-CN" sz="3600" spc="-1" strike="noStrike">
                <a:solidFill>
                  <a:srgbClr val="046ca6"/>
                </a:solidFill>
                <a:latin typeface="华文新魏"/>
              </a:rPr>
              <a:t>为</a:t>
            </a:r>
            <a:r>
              <a:rPr b="0" lang="en-US" sz="3600" spc="-1" strike="noStrike">
                <a:solidFill>
                  <a:srgbClr val="046ca6"/>
                </a:solidFill>
                <a:latin typeface="华文新魏"/>
              </a:rPr>
              <a:t>12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判断该患者酸碱平衡紊乱的类型。目前主要的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是什么？目前的护理措施是什么？</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理需要量：一般成人日需要水分</a:t>
            </a:r>
            <a:r>
              <a:rPr b="0" lang="en-US" sz="3200" spc="-1" strike="noStrike">
                <a:solidFill>
                  <a:srgbClr val="046ca6"/>
                </a:solidFill>
                <a:latin typeface="华文新魏"/>
              </a:rPr>
              <a:t>2000~250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已经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继续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503" name=""/>
          <p:cNvSpPr txBox="1"/>
          <p:nvPr/>
        </p:nvSpPr>
        <p:spPr>
          <a:xfrm>
            <a:off x="250920" y="1267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急性腹膜炎导致代谢性产酸过多，目前呼吸加快、血压偏低、呼吸有酮味，且血气分析异常，故考虑为急性腹膜炎、代谢性酸中毒、感染中毒性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急性腹膜炎导致体液丢失有关）、体温过高（与腹膜炎有关）、低效性呼吸型态（与代谢性酸中毒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遵医嘱治疗腹膜炎；协助患者取适当的体位利于呼吸；做好高热护理； 密切观察呼吸频率及神志的变化；保持呼吸道通畅；密切监测血气分析和血清电解质。</a:t>
            </a:r>
            <a:endParaRPr b="0" lang="en-US" sz="2800" spc="-1" strike="noStrike">
              <a:solidFill>
                <a:srgbClr val="046ca6"/>
              </a:solidFill>
              <a:latin typeface="华文新魏"/>
            </a:endParaRPr>
          </a:p>
        </p:txBody>
      </p:sp>
      <p:sp>
        <p:nvSpPr>
          <p:cNvPr id="5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低渗性缺水患者尿比重的变化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稍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无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明显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无明显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降低</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可导致低渗性缺水的情况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高热</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长期禁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腹腔急性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大面积烧伤早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幽门梗阻</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低钾血症和高钾血症患者均可出现的症状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肠麻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乏力、软瘫</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舒张期停搏</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恶心、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心电图</a:t>
            </a:r>
            <a:r>
              <a:rPr b="0" lang="en-US" sz="3600" spc="-1" strike="noStrike">
                <a:solidFill>
                  <a:srgbClr val="046ca6"/>
                </a:solidFill>
                <a:latin typeface="华文新魏"/>
              </a:rPr>
              <a:t>T</a:t>
            </a:r>
            <a:r>
              <a:rPr b="0" lang="zh-CN" sz="3600" spc="-1" strike="noStrike">
                <a:solidFill>
                  <a:srgbClr val="046ca6"/>
                </a:solidFill>
                <a:latin typeface="华文新魏"/>
              </a:rPr>
              <a:t>波高尖</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高钾血症患者出现心律失常时，首先应给予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 5%</a:t>
            </a:r>
            <a:r>
              <a:rPr b="0" lang="zh-CN" sz="3600" spc="-1" strike="noStrike">
                <a:solidFill>
                  <a:srgbClr val="046ca6"/>
                </a:solidFill>
                <a:latin typeface="华文新魏"/>
              </a:rPr>
              <a:t>葡萄糖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 0.9%</a:t>
            </a:r>
            <a:r>
              <a:rPr b="0" lang="zh-CN" sz="3600" spc="-1" strike="noStrike">
                <a:solidFill>
                  <a:srgbClr val="046ca6"/>
                </a:solidFill>
                <a:latin typeface="华文新魏"/>
              </a:rPr>
              <a:t>生理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 10%</a:t>
            </a:r>
            <a:r>
              <a:rPr b="0" lang="zh-CN" sz="3600" spc="-1" strike="noStrike">
                <a:solidFill>
                  <a:srgbClr val="046ca6"/>
                </a:solidFill>
                <a:latin typeface="华文新魏"/>
              </a:rPr>
              <a:t>葡萄糖酸钙</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 5%</a:t>
            </a:r>
            <a:r>
              <a:rPr b="0" lang="zh-CN" sz="3600" spc="-1" strike="noStrike">
                <a:solidFill>
                  <a:srgbClr val="046ca6"/>
                </a:solidFill>
                <a:latin typeface="华文新魏"/>
              </a:rPr>
              <a:t>葡萄糖</a:t>
            </a:r>
            <a:r>
              <a:rPr b="0" lang="en-US" sz="3600" spc="-1" strike="noStrike">
                <a:solidFill>
                  <a:srgbClr val="046ca6"/>
                </a:solidFill>
                <a:latin typeface="华文新魏"/>
              </a:rPr>
              <a:t>+</a:t>
            </a:r>
            <a:r>
              <a:rPr b="0" lang="zh-CN" sz="3600" spc="-1" strike="noStrike">
                <a:solidFill>
                  <a:srgbClr val="046ca6"/>
                </a:solidFill>
                <a:latin typeface="华文新魏"/>
              </a:rPr>
              <a:t>胰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 10%</a:t>
            </a:r>
            <a:r>
              <a:rPr b="0" lang="zh-CN" sz="3600" spc="-1" strike="noStrike">
                <a:solidFill>
                  <a:srgbClr val="046ca6"/>
                </a:solidFill>
                <a:latin typeface="华文新魏"/>
              </a:rPr>
              <a:t>氯化钾</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下列情况不会引发高钙血症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甲状旁腺功能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骨转移癌</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肾上腺功能不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发性骨髓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高血磷</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女性，</a:t>
            </a:r>
            <a:r>
              <a:rPr b="0" lang="en-US" sz="4000" spc="-1" strike="noStrike">
                <a:solidFill>
                  <a:srgbClr val="046ca6"/>
                </a:solidFill>
                <a:latin typeface="华文新魏"/>
              </a:rPr>
              <a:t>30</a:t>
            </a:r>
            <a:r>
              <a:rPr b="0" lang="zh-CN" sz="4000" spc="-1" strike="noStrike">
                <a:solidFill>
                  <a:srgbClr val="046ca6"/>
                </a:solidFill>
                <a:latin typeface="华文新魏"/>
              </a:rPr>
              <a:t>岁，疑为甲状旁腺功能异常，测得其血清钙浓度为为</a:t>
            </a:r>
            <a:r>
              <a:rPr b="0" lang="en-US" sz="4000" spc="-1" strike="noStrike">
                <a:solidFill>
                  <a:srgbClr val="046ca6"/>
                </a:solidFill>
                <a:latin typeface="华文新魏"/>
              </a:rPr>
              <a:t>1.45mmol/L</a:t>
            </a:r>
            <a:r>
              <a:rPr b="0" lang="zh-CN" sz="4000" spc="-1" strike="noStrike">
                <a:solidFill>
                  <a:srgbClr val="046ca6"/>
                </a:solidFill>
                <a:latin typeface="华文新魏"/>
              </a:rPr>
              <a:t>。该患者不会出现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易激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腱反射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周及指尖麻木感或针刺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尿、便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Chvostek</a:t>
            </a:r>
            <a:r>
              <a:rPr b="0" lang="zh-CN" sz="3600" spc="-1" strike="noStrike">
                <a:solidFill>
                  <a:srgbClr val="046ca6"/>
                </a:solidFill>
                <a:latin typeface="华文新魏"/>
              </a:rPr>
              <a:t>征（</a:t>
            </a:r>
            <a:r>
              <a:rPr b="0" lang="en-US" sz="3600" spc="-1" strike="noStrike">
                <a:solidFill>
                  <a:srgbClr val="046ca6"/>
                </a:solidFill>
                <a:latin typeface="华文新魏"/>
              </a:rPr>
              <a:t>+</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男性，</a:t>
            </a:r>
            <a:r>
              <a:rPr b="0" lang="en-US" sz="3600" spc="-1" strike="noStrike">
                <a:solidFill>
                  <a:srgbClr val="046ca6"/>
                </a:solidFill>
                <a:latin typeface="华文新魏"/>
              </a:rPr>
              <a:t>40</a:t>
            </a:r>
            <a:r>
              <a:rPr b="0" lang="zh-CN" sz="3600" spc="-1" strike="noStrike">
                <a:solidFill>
                  <a:srgbClr val="046ca6"/>
                </a:solidFill>
                <a:latin typeface="华文新魏"/>
              </a:rPr>
              <a:t>岁。胸腹部损伤后并发急性呼吸衰竭，行呼吸机支持呼吸，若给予潮气量过大，频率太快，则可引起</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  </a:t>
            </a:r>
            <a:r>
              <a:rPr b="0" lang="zh-CN" sz="3200" spc="-1" strike="noStrike">
                <a:solidFill>
                  <a:srgbClr val="046ca6"/>
                </a:solidFill>
                <a:latin typeface="华文新魏"/>
              </a:rPr>
              <a:t>呼吸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呼吸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代谢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代谢性酸中毒合并呼吸性碱中毒</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男性，</a:t>
            </a:r>
            <a:r>
              <a:rPr b="0" lang="en-US" sz="4000" spc="-1" strike="noStrike">
                <a:solidFill>
                  <a:srgbClr val="046ca6"/>
                </a:solidFill>
                <a:latin typeface="华文新魏"/>
              </a:rPr>
              <a:t>68</a:t>
            </a:r>
            <a:r>
              <a:rPr b="0" lang="zh-CN" sz="4000" spc="-1" strike="noStrike">
                <a:solidFill>
                  <a:srgbClr val="046ca6"/>
                </a:solidFill>
                <a:latin typeface="华文新魏"/>
              </a:rPr>
              <a:t>岁。直肠癌术后合并严重肺部感染，呼吸困难，</a:t>
            </a:r>
            <a:r>
              <a:rPr b="0" lang="en-US" sz="4000" spc="-1" strike="noStrike">
                <a:solidFill>
                  <a:srgbClr val="046ca6"/>
                </a:solidFill>
                <a:latin typeface="华文新魏"/>
              </a:rPr>
              <a:t>pH 7.29</a:t>
            </a:r>
            <a:r>
              <a:rPr b="0" lang="zh-CN" sz="4000" spc="-1" strike="noStrike">
                <a:solidFill>
                  <a:srgbClr val="046ca6"/>
                </a:solidFill>
                <a:latin typeface="华文新魏"/>
              </a:rPr>
              <a:t>，</a:t>
            </a:r>
            <a:r>
              <a:rPr b="0" lang="en-US" sz="4000" spc="-1" strike="noStrike">
                <a:solidFill>
                  <a:srgbClr val="046ca6"/>
                </a:solidFill>
                <a:latin typeface="华文新魏"/>
              </a:rPr>
              <a:t>PCO</a:t>
            </a:r>
            <a:r>
              <a:rPr b="0" lang="en-US" sz="4000" spc="-1" strike="noStrike" baseline="-25000">
                <a:solidFill>
                  <a:srgbClr val="046ca6"/>
                </a:solidFill>
                <a:latin typeface="华文新魏"/>
              </a:rPr>
              <a:t>2 </a:t>
            </a:r>
            <a:r>
              <a:rPr b="0" lang="en-US" sz="4000" spc="-1" strike="noStrike">
                <a:solidFill>
                  <a:srgbClr val="046ca6"/>
                </a:solidFill>
                <a:latin typeface="华文新魏"/>
              </a:rPr>
              <a:t>70mmHg</a:t>
            </a:r>
            <a:r>
              <a:rPr b="0" lang="zh-CN" sz="4000" spc="-1" strike="noStrike">
                <a:solidFill>
                  <a:srgbClr val="046ca6"/>
                </a:solidFill>
                <a:latin typeface="华文新魏"/>
              </a:rPr>
              <a:t>，考虑其出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碱中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纠正代谢性酸中毒过程中，应特别关注的血电解质是</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Na</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K</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a</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Cl</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Mg</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原则</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晶后胶</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盐后糖</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快后慢</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见尿补钾</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瘢痕性幽门梗阻的患者，反复呕吐半个月，应尤其注意其出现</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酸中毒</a:t>
            </a:r>
            <a:endParaRPr b="0" lang="en-US" sz="3600" spc="-1" strike="noStrike">
              <a:solidFill>
                <a:srgbClr val="046ca6"/>
              </a:solidFill>
              <a:latin typeface="华文新魏"/>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53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1.E   2.D   3.B   4.C   5.C  </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6.E   7.D   8.C  9.B   10.B</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2276640"/>
            <a:ext cx="568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低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水钠同时丢失，但失钠多于失水，血清钠浓度降低，血浆渗透压低于正常范围，又称为慢性缺水或继发性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频繁呕吐、长期胃肠减压、肠瘘或慢性肠梗阻等造成的消化液持续性丧失；或创面大量渗液；或使用排钠利尿剂使机体失钠多于缺水</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钠 </a:t>
            </a:r>
            <a:r>
              <a:rPr b="0" lang="en-US" sz="3200" spc="-1" strike="noStrike">
                <a:solidFill>
                  <a:srgbClr val="046ca6"/>
                </a:solidFill>
                <a:latin typeface="华文新魏"/>
              </a:rPr>
              <a:t> </a:t>
            </a:r>
            <a:r>
              <a:rPr b="0" lang="zh-CN" sz="3200" spc="-1" strike="noStrike">
                <a:solidFill>
                  <a:srgbClr val="046ca6"/>
                </a:solidFill>
                <a:latin typeface="华文新魏"/>
              </a:rPr>
              <a:t>血钠为</a:t>
            </a:r>
            <a:r>
              <a:rPr b="0" lang="en-US" sz="3200" spc="-1" strike="noStrike">
                <a:solidFill>
                  <a:srgbClr val="046ca6"/>
                </a:solidFill>
                <a:latin typeface="华文新魏"/>
              </a:rPr>
              <a:t>130~135 mmol/L</a:t>
            </a:r>
            <a:r>
              <a:rPr b="0" lang="zh-CN" sz="3200" spc="-1" strike="noStrike">
                <a:solidFill>
                  <a:srgbClr val="046ca6"/>
                </a:solidFill>
                <a:latin typeface="华文新魏"/>
              </a:rPr>
              <a:t>，出现疲乏、头晕、手足麻木，无口渴，尿多，比重减小</a:t>
            </a: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说出</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概念</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病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钠 血钠为</a:t>
            </a:r>
            <a:r>
              <a:rPr b="0" lang="en-US" sz="3200" spc="-1" strike="noStrike">
                <a:solidFill>
                  <a:srgbClr val="046ca6"/>
                </a:solidFill>
                <a:latin typeface="华文新魏"/>
              </a:rPr>
              <a:t>120~129 mmol/L</a:t>
            </a:r>
            <a:r>
              <a:rPr b="0" lang="zh-CN" sz="3200" spc="-1" strike="noStrike">
                <a:solidFill>
                  <a:srgbClr val="046ca6"/>
                </a:solidFill>
                <a:latin typeface="华文新魏"/>
              </a:rPr>
              <a:t>，除上述症状外，出现食欲不振、恶心呕吐，脉搏细速，血压不稳或下降，脉压减小，浅静脉萎陷，视物模糊，直立性低血压等血容量不足表现。尿少，尿中几乎不含钠及氯</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钠 血钠在</a:t>
            </a:r>
            <a:r>
              <a:rPr b="0" lang="en-US" sz="3200" spc="-1" strike="noStrike">
                <a:solidFill>
                  <a:srgbClr val="046ca6"/>
                </a:solidFill>
                <a:latin typeface="华文新魏"/>
              </a:rPr>
              <a:t>120 mmol/L</a:t>
            </a:r>
            <a:r>
              <a:rPr b="0" lang="zh-CN" sz="3200" spc="-1" strike="noStrike">
                <a:solidFill>
                  <a:srgbClr val="046ca6"/>
                </a:solidFill>
                <a:latin typeface="华文新魏"/>
              </a:rPr>
              <a:t>以下，患者肌痉挛性抽痛，腱反射减弱或消失，神志不清、休克等</a:t>
            </a:r>
            <a:endParaRPr b="0" lang="en-US" sz="32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的低渗状态及血容量不足</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长期大量呕吐、胃肠减压等原因所致慢性体液丧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给予补充等渗或高渗盐水，以纠正细胞外液量的低渗状态及血容量不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及其他补液护理的内容参见等渗性缺水</a:t>
            </a: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34920" y="2276640"/>
            <a:ext cx="578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高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水钠同时丢失，但失水多于失钠，血清钠浓度和血浆渗透压高于正常范围，细胞外液呈高渗状态，又称原发性缺水</a:t>
            </a:r>
            <a:endParaRPr b="0" lang="en-US" sz="36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禁食、吞咽困难等不能或限制进水的患者导致水摄入不足；或大面积烧伤暴露疗法、高热、大量出汗、过度通气、肾性尿崩症等导致水丢失过多</a:t>
            </a:r>
            <a:endParaRPr b="0" lang="en-US" sz="36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3</a:t>
            </a:r>
            <a:r>
              <a:rPr b="0" lang="zh-CN" sz="3200" spc="-1" strike="noStrike">
                <a:solidFill>
                  <a:srgbClr val="046ca6"/>
                </a:solidFill>
                <a:latin typeface="华文新魏"/>
              </a:rPr>
              <a:t>种类型缺水和水中毒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高钾血症和低钾血症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4</a:t>
            </a:r>
            <a:r>
              <a:rPr b="0" lang="zh-CN" sz="3200" spc="-1" strike="noStrike">
                <a:solidFill>
                  <a:srgbClr val="046ca6"/>
                </a:solidFill>
                <a:latin typeface="华文新魏"/>
              </a:rPr>
              <a:t>种酸碱失衡的临床表现及处理原则</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占体重</a:t>
            </a:r>
            <a:r>
              <a:rPr b="0" lang="en-US" sz="3200" spc="-1" strike="noStrike">
                <a:solidFill>
                  <a:srgbClr val="046ca6"/>
                </a:solidFill>
                <a:latin typeface="华文新魏"/>
              </a:rPr>
              <a:t>2%~4%</a:t>
            </a:r>
            <a:r>
              <a:rPr b="0" lang="zh-CN" sz="3200" spc="-1" strike="noStrike">
                <a:solidFill>
                  <a:srgbClr val="046ca6"/>
                </a:solidFill>
                <a:latin typeface="华文新魏"/>
              </a:rPr>
              <a:t>，仅有口渴，其他表现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占体重</a:t>
            </a:r>
            <a:r>
              <a:rPr b="0" lang="en-US" sz="3200" spc="-1" strike="noStrike">
                <a:solidFill>
                  <a:srgbClr val="046ca6"/>
                </a:solidFill>
                <a:latin typeface="华文新魏"/>
              </a:rPr>
              <a:t>4%~6%</a:t>
            </a:r>
            <a:r>
              <a:rPr b="0" lang="zh-CN" sz="3200" spc="-1" strike="noStrike">
                <a:solidFill>
                  <a:srgbClr val="046ca6"/>
                </a:solidFill>
                <a:latin typeface="华文新魏"/>
              </a:rPr>
              <a:t>，极度口渴，尿少，比重增加，皮肤弹性差，口唇干燥，眼窝下陷，常有烦躁不安、四肢无力</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超过体重的</a:t>
            </a:r>
            <a:r>
              <a:rPr b="0" lang="en-US" sz="3200" spc="-1" strike="noStrike">
                <a:solidFill>
                  <a:srgbClr val="046ca6"/>
                </a:solidFill>
                <a:latin typeface="华文新魏"/>
              </a:rPr>
              <a:t>6%</a:t>
            </a:r>
            <a:r>
              <a:rPr b="0" lang="zh-CN" sz="3200" spc="-1" strike="noStrike">
                <a:solidFill>
                  <a:srgbClr val="046ca6"/>
                </a:solidFill>
                <a:latin typeface="华文新魏"/>
              </a:rPr>
              <a:t>。除上述症状外，意识障碍更为明显，出现躁狂、幻觉、谵妄、昏迷等</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可见红细胞计数、血红蛋白、血细胞比容增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升高，尿比重升高</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因高渗性缺水出现口渴及四肢无力，常担心原发疾病恶化，而出现焦虑紧张心理</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细胞外液的渗透压</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体液丧失过多或摄入不足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腔黏膜改变 </a:t>
            </a:r>
            <a:r>
              <a:rPr b="0" lang="en-US" sz="3200" spc="-1" strike="noStrike">
                <a:solidFill>
                  <a:srgbClr val="046ca6"/>
                </a:solidFill>
                <a:latin typeface="华文新魏"/>
              </a:rPr>
              <a:t> </a:t>
            </a:r>
            <a:r>
              <a:rPr b="0" lang="zh-CN" sz="3200" spc="-1" strike="noStrike">
                <a:solidFill>
                  <a:srgbClr val="046ca6"/>
                </a:solidFill>
                <a:latin typeface="华文新魏"/>
              </a:rPr>
              <a:t>与体液不足、口腔黏膜干燥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潜在并发症 </a:t>
            </a:r>
            <a:r>
              <a:rPr b="0" lang="en-US" sz="3200" spc="-1" strike="noStrike">
                <a:solidFill>
                  <a:srgbClr val="046ca6"/>
                </a:solidFill>
                <a:latin typeface="华文新魏"/>
              </a:rPr>
              <a:t> </a:t>
            </a:r>
            <a:r>
              <a:rPr b="0" lang="zh-CN" sz="3200" spc="-1" strike="noStrike">
                <a:solidFill>
                  <a:srgbClr val="046ca6"/>
                </a:solidFill>
                <a:latin typeface="华文新魏"/>
              </a:rPr>
              <a:t>昏迷</a:t>
            </a: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鼓励患者饮水，若不能饮水，可漱口、用湿毛巾润唇或采用雾化吸入等以减轻口干症状</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及其他有关补液护理的内容参见等渗性缺水</a:t>
            </a: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水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过多水分在体内潴留引起血浆渗透压降低和循环血量增多的状态，又称稀释性低钠血症</a:t>
            </a:r>
            <a:endParaRPr b="0" lang="en-US" sz="36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肾功能不全、各种原因引起抗利尿激素分泌过多以及摄入的水过多或静脉补液过多</a:t>
            </a:r>
            <a:endParaRPr b="0" lang="en-US" sz="36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鉴别常见的的水、电解质和酸碱平衡失调</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水、电解质和酸碱平衡失调患者并为其制订护理计划</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水中毒</a:t>
            </a:r>
            <a:r>
              <a:rPr b="0" lang="en-US" sz="3200" spc="-1" strike="noStrike">
                <a:solidFill>
                  <a:srgbClr val="046ca6"/>
                </a:solidFill>
                <a:latin typeface="华文新魏"/>
              </a:rPr>
              <a:t>  </a:t>
            </a:r>
            <a:r>
              <a:rPr b="0" lang="zh-CN" sz="3200" spc="-1" strike="noStrike">
                <a:solidFill>
                  <a:srgbClr val="046ca6"/>
                </a:solidFill>
                <a:latin typeface="华文新魏"/>
              </a:rPr>
              <a:t>由于脑细胞和脑组织水肿，致使颅内压增高，引起相应的神经、精神症状，表现为头痛、呕吐、躁动、谵妄，甚至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水中毒</a:t>
            </a:r>
            <a:r>
              <a:rPr b="0" lang="en-US" sz="3200" spc="-1" strike="noStrike">
                <a:solidFill>
                  <a:srgbClr val="046ca6"/>
                </a:solidFill>
                <a:latin typeface="华文新魏"/>
              </a:rPr>
              <a:t>  </a:t>
            </a:r>
            <a:r>
              <a:rPr b="0" lang="zh-CN" sz="3200" spc="-1" strike="noStrike">
                <a:solidFill>
                  <a:srgbClr val="046ca6"/>
                </a:solidFill>
                <a:latin typeface="华文新魏"/>
              </a:rPr>
              <a:t>表现为恶心、呕吐、软弱无力、嗜睡、体重明显增加等，一般无凹陷性水肿</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稀释，红细胞计数、血红蛋白量、血细胞比容和血浆蛋白量均降低，血浆渗透压降低，平均红细胞容积增加</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是否有休克、肝、肾、心功能不全病史，了解患者饮水情况以及输液治疗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发疾病，立即停止水分摄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利尿剂促进水分排出，如</a:t>
            </a:r>
            <a:r>
              <a:rPr b="0" lang="en-US" sz="3200" spc="-1" strike="noStrike">
                <a:solidFill>
                  <a:srgbClr val="046ca6"/>
                </a:solidFill>
                <a:latin typeface="华文新魏"/>
              </a:rPr>
              <a:t>20%</a:t>
            </a:r>
            <a:r>
              <a:rPr b="0" lang="zh-CN" sz="3200" spc="-1" strike="noStrike">
                <a:solidFill>
                  <a:srgbClr val="046ca6"/>
                </a:solidFill>
                <a:latin typeface="华文新魏"/>
              </a:rPr>
              <a:t>甘露醇或</a:t>
            </a:r>
            <a:r>
              <a:rPr b="0" lang="en-US" sz="3200" spc="-1" strike="noStrike">
                <a:solidFill>
                  <a:srgbClr val="046ca6"/>
                </a:solidFill>
                <a:latin typeface="华文新魏"/>
              </a:rPr>
              <a:t>25%</a:t>
            </a:r>
            <a:r>
              <a:rPr b="0" lang="zh-CN" sz="3200" spc="-1" strike="noStrike">
                <a:solidFill>
                  <a:srgbClr val="046ca6"/>
                </a:solidFill>
                <a:latin typeface="华文新魏"/>
              </a:rPr>
              <a:t>山梨醇或呋塞米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滴注</a:t>
            </a:r>
            <a:r>
              <a:rPr b="0" lang="en-US" sz="3200" spc="-1" strike="noStrike">
                <a:solidFill>
                  <a:srgbClr val="046ca6"/>
                </a:solidFill>
                <a:latin typeface="华文新魏"/>
              </a:rPr>
              <a:t>5%</a:t>
            </a:r>
            <a:r>
              <a:rPr b="0" lang="zh-CN" sz="3200" spc="-1" strike="noStrike">
                <a:solidFill>
                  <a:srgbClr val="046ca6"/>
                </a:solidFill>
                <a:latin typeface="华文新魏"/>
              </a:rPr>
              <a:t>氯化钠溶液，以迅速改善体液的低渗状态和减轻脑细胞肿胀</a:t>
            </a:r>
            <a:endParaRPr b="0" lang="en-US" sz="32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过多 </a:t>
            </a:r>
            <a:r>
              <a:rPr b="0" lang="en-US" sz="3600" spc="-1" strike="noStrike">
                <a:solidFill>
                  <a:srgbClr val="046ca6"/>
                </a:solidFill>
                <a:latin typeface="华文新魏"/>
              </a:rPr>
              <a:t> </a:t>
            </a:r>
            <a:r>
              <a:rPr b="0" lang="zh-CN" sz="3600" spc="-1" strike="noStrike">
                <a:solidFill>
                  <a:srgbClr val="046ca6"/>
                </a:solidFill>
                <a:latin typeface="华文新魏"/>
              </a:rPr>
              <a:t>与水分摄入过多、排出不足或脏器功能不全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颅内压增高，脑疝</a:t>
            </a:r>
            <a:endParaRPr b="0" lang="en-US" sz="36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去除病因和诱因，纠正体液量过多，控制水的摄入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变化，评估脑水肿及肺水肿的发展程度，记录出入量</a:t>
            </a:r>
            <a:endParaRPr b="0" lang="en-US" sz="36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钾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钾代谢紊乱</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案例</a:t>
            </a:r>
            <a:r>
              <a:rPr b="0" lang="en-US" sz="3200" spc="-1" strike="noStrike">
                <a:solidFill>
                  <a:srgbClr val="046ca6"/>
                </a:solidFill>
                <a:latin typeface="华文新魏"/>
              </a:rPr>
              <a:t>2-2</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61</a:t>
            </a:r>
            <a:r>
              <a:rPr b="0" lang="zh-CN" sz="3200" spc="-1" strike="noStrike">
                <a:solidFill>
                  <a:srgbClr val="046ca6"/>
                </a:solidFill>
                <a:latin typeface="华文新魏"/>
              </a:rPr>
              <a:t>岁。近</a:t>
            </a:r>
            <a:r>
              <a:rPr b="0" lang="en-US" sz="3200" spc="-1" strike="noStrike">
                <a:solidFill>
                  <a:srgbClr val="046ca6"/>
                </a:solidFill>
                <a:latin typeface="华文新魏"/>
              </a:rPr>
              <a:t>1</a:t>
            </a:r>
            <a:r>
              <a:rPr b="0" lang="zh-CN" sz="3200" spc="-1" strike="noStrike">
                <a:solidFill>
                  <a:srgbClr val="046ca6"/>
                </a:solidFill>
                <a:latin typeface="华文新魏"/>
              </a:rPr>
              <a:t>个月进食减少。</a:t>
            </a:r>
            <a:r>
              <a:rPr b="0" lang="en-US" sz="3200" spc="-1" strike="noStrike">
                <a:solidFill>
                  <a:srgbClr val="046ca6"/>
                </a:solidFill>
                <a:latin typeface="华文新魏"/>
              </a:rPr>
              <a:t>5</a:t>
            </a:r>
            <a:r>
              <a:rPr b="0" lang="zh-CN" sz="3200" spc="-1" strike="noStrike">
                <a:solidFill>
                  <a:srgbClr val="046ca6"/>
                </a:solidFill>
                <a:latin typeface="华文新魏"/>
              </a:rPr>
              <a:t>日前出现双下肢无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血清钾：</a:t>
            </a:r>
            <a:r>
              <a:rPr b="0" lang="en-US" sz="3200" spc="-1" strike="noStrike">
                <a:solidFill>
                  <a:srgbClr val="046ca6"/>
                </a:solidFill>
                <a:latin typeface="华文新魏"/>
              </a:rPr>
              <a:t>3.4mmol/L</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心电图：</a:t>
            </a:r>
            <a:r>
              <a:rPr b="0" lang="en-US" sz="3200" spc="-1" strike="noStrike">
                <a:solidFill>
                  <a:srgbClr val="046ca6"/>
                </a:solidFill>
                <a:latin typeface="华文新魏"/>
              </a:rPr>
              <a:t>T</a:t>
            </a:r>
            <a:r>
              <a:rPr b="0" lang="zh-CN" sz="3200" spc="-1" strike="noStrike">
                <a:solidFill>
                  <a:srgbClr val="046ca6"/>
                </a:solidFill>
                <a:latin typeface="华文新魏"/>
              </a:rPr>
              <a:t>波低平，</a:t>
            </a:r>
            <a:r>
              <a:rPr b="0" lang="en-US" sz="3200" spc="-1" strike="noStrike">
                <a:solidFill>
                  <a:srgbClr val="046ca6"/>
                </a:solidFill>
                <a:latin typeface="华文新魏"/>
              </a:rPr>
              <a:t>ST</a:t>
            </a:r>
            <a:r>
              <a:rPr b="0" lang="zh-CN" sz="3200" spc="-1" strike="noStrike">
                <a:solidFill>
                  <a:srgbClr val="046ca6"/>
                </a:solidFill>
                <a:latin typeface="华文新魏"/>
              </a:rPr>
              <a:t>段降低。</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患者可能出现何种电解质失衡？</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②</a:t>
            </a:r>
            <a:r>
              <a:rPr b="0" lang="zh-CN" sz="3200" spc="-1" strike="noStrike">
                <a:solidFill>
                  <a:srgbClr val="046ca6"/>
                </a:solidFill>
                <a:latin typeface="华文新魏"/>
              </a:rPr>
              <a:t>如何处理？</a:t>
            </a:r>
            <a:endParaRPr b="0" lang="en-US" sz="32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钾血症（</a:t>
            </a:r>
            <a:r>
              <a:rPr b="0" lang="en-US" sz="3600" spc="-1" strike="noStrike">
                <a:solidFill>
                  <a:srgbClr val="046ca6"/>
                </a:solidFill>
                <a:latin typeface="华文新魏"/>
              </a:rPr>
              <a:t>hypokalemia</a:t>
            </a:r>
            <a:r>
              <a:rPr b="0" lang="zh-CN" sz="3600" spc="-1" strike="noStrike">
                <a:solidFill>
                  <a:srgbClr val="046ca6"/>
                </a:solidFill>
                <a:latin typeface="华文新魏"/>
              </a:rPr>
              <a:t>）是指血清钾浓度低于</a:t>
            </a:r>
            <a:r>
              <a:rPr b="0" lang="en-US" sz="3600" spc="-1" strike="noStrike">
                <a:solidFill>
                  <a:srgbClr val="046ca6"/>
                </a:solidFill>
                <a:latin typeface="华文新魏"/>
              </a:rPr>
              <a:t>3.5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摄入量不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钾排出过多</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胞内钾分布异常</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水和钠的代谢紊乱</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无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化道症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脏功能异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液检查：血清钾低于</a:t>
            </a:r>
            <a:r>
              <a:rPr b="0" lang="en-US" sz="2800" spc="-1" strike="noStrike">
                <a:solidFill>
                  <a:srgbClr val="046ca6"/>
                </a:solidFill>
                <a:latin typeface="华文新魏"/>
              </a:rPr>
              <a:t>3.5mmol/L</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电图：低钾时典型的心电图改变为</a:t>
            </a:r>
            <a:r>
              <a:rPr b="0" lang="en-US" sz="2800" spc="-1" strike="noStrike">
                <a:solidFill>
                  <a:srgbClr val="046ca6"/>
                </a:solidFill>
                <a:latin typeface="华文新魏"/>
              </a:rPr>
              <a:t>T</a:t>
            </a:r>
            <a:r>
              <a:rPr b="0" lang="zh-CN" sz="2800" spc="-1" strike="noStrike">
                <a:solidFill>
                  <a:srgbClr val="046ca6"/>
                </a:solidFill>
                <a:latin typeface="华文新魏"/>
              </a:rPr>
              <a:t>波降低、变平或倒置，</a:t>
            </a:r>
            <a:r>
              <a:rPr b="0" lang="en-US" sz="2800" spc="-1" strike="noStrike">
                <a:solidFill>
                  <a:srgbClr val="046ca6"/>
                </a:solidFill>
                <a:latin typeface="华文新魏"/>
              </a:rPr>
              <a:t>ST</a:t>
            </a:r>
            <a:r>
              <a:rPr b="0" lang="zh-CN" sz="2800" spc="-1" strike="noStrike">
                <a:solidFill>
                  <a:srgbClr val="046ca6"/>
                </a:solidFill>
                <a:latin typeface="华文新魏"/>
              </a:rPr>
              <a:t>段降低、</a:t>
            </a:r>
            <a:r>
              <a:rPr b="0" lang="en-US" sz="2800" spc="-1" strike="noStrike">
                <a:solidFill>
                  <a:srgbClr val="046ca6"/>
                </a:solidFill>
                <a:latin typeface="华文新魏"/>
              </a:rPr>
              <a:t>QT</a:t>
            </a:r>
            <a:r>
              <a:rPr b="0" lang="zh-CN" sz="2800" spc="-1" strike="noStrike">
                <a:solidFill>
                  <a:srgbClr val="046ca6"/>
                </a:solidFill>
                <a:latin typeface="华文新魏"/>
              </a:rPr>
              <a:t>间期延长，</a:t>
            </a:r>
            <a:r>
              <a:rPr b="0" lang="en-US" sz="2800" spc="-1" strike="noStrike">
                <a:solidFill>
                  <a:srgbClr val="046ca6"/>
                </a:solidFill>
                <a:latin typeface="华文新魏"/>
              </a:rPr>
              <a:t>U</a:t>
            </a:r>
            <a:r>
              <a:rPr b="0" lang="zh-CN" sz="2800" spc="-1" strike="noStrike">
                <a:solidFill>
                  <a:srgbClr val="046ca6"/>
                </a:solidFill>
                <a:latin typeface="华文新魏"/>
              </a:rPr>
              <a:t>波出现</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2" descr=""/>
          <p:cNvPicPr/>
          <p:nvPr/>
        </p:nvPicPr>
        <p:blipFill>
          <a:blip r:embed="rId1"/>
          <a:stretch/>
        </p:blipFill>
        <p:spPr>
          <a:xfrm>
            <a:off x="1755720" y="4437000"/>
            <a:ext cx="6594480" cy="194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低钾血症的各种相关因素，如禁食、呕吐、腹泻、使用利尿剂、合并碱中毒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r>
              <a:rPr b="0" lang="en-US" sz="3200" spc="-1" strike="noStrike">
                <a:solidFill>
                  <a:srgbClr val="046ca6"/>
                </a:solidFill>
                <a:latin typeface="华文新魏"/>
              </a:rPr>
              <a:t>  </a:t>
            </a:r>
            <a:r>
              <a:rPr b="0" lang="zh-CN" sz="3200" spc="-1" strike="noStrike">
                <a:solidFill>
                  <a:srgbClr val="046ca6"/>
                </a:solidFill>
                <a:latin typeface="华文新魏"/>
              </a:rPr>
              <a:t>去除引起低钾血症的原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缺钾程度补钾</a:t>
            </a:r>
            <a:r>
              <a:rPr b="0" lang="en-US" sz="3200" spc="-1" strike="noStrike">
                <a:solidFill>
                  <a:srgbClr val="046ca6"/>
                </a:solidFill>
                <a:latin typeface="华文新魏"/>
              </a:rPr>
              <a:t>  </a:t>
            </a:r>
            <a:r>
              <a:rPr b="0" lang="zh-CN" sz="3200" spc="-1" strike="noStrike">
                <a:solidFill>
                  <a:srgbClr val="046ca6"/>
                </a:solidFill>
                <a:latin typeface="华文新魏"/>
              </a:rPr>
              <a:t>通常采用分次补钾、边治疗边观察的方法。可通过口服或静脉补钾。静脉补钾常用</a:t>
            </a:r>
            <a:r>
              <a:rPr b="0" lang="en-US" sz="3200" spc="-1" strike="noStrike">
                <a:solidFill>
                  <a:srgbClr val="046ca6"/>
                </a:solidFill>
                <a:latin typeface="华文新魏"/>
              </a:rPr>
              <a:t>10%</a:t>
            </a:r>
            <a:r>
              <a:rPr b="0" lang="zh-CN" sz="3200" spc="-1" strike="noStrike">
                <a:solidFill>
                  <a:srgbClr val="046ca6"/>
                </a:solidFill>
                <a:latin typeface="华文新魏"/>
              </a:rPr>
              <a:t>或</a:t>
            </a:r>
            <a:r>
              <a:rPr b="0" lang="en-US" sz="3200" spc="-1" strike="noStrike">
                <a:solidFill>
                  <a:srgbClr val="046ca6"/>
                </a:solidFill>
                <a:latin typeface="华文新魏"/>
              </a:rPr>
              <a:t>15%</a:t>
            </a:r>
            <a:r>
              <a:rPr b="0" lang="zh-CN" sz="3200" spc="-1" strike="noStrike">
                <a:solidFill>
                  <a:srgbClr val="046ca6"/>
                </a:solidFill>
                <a:latin typeface="华文新魏"/>
              </a:rPr>
              <a:t>氯化钾溶液</a:t>
            </a: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低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便秘（的危险） </a:t>
            </a:r>
            <a:r>
              <a:rPr b="0" lang="en-US" sz="3600" spc="-1" strike="noStrike">
                <a:solidFill>
                  <a:srgbClr val="046ca6"/>
                </a:solidFill>
                <a:latin typeface="华文新魏"/>
              </a:rPr>
              <a:t> </a:t>
            </a:r>
            <a:r>
              <a:rPr b="0" lang="zh-CN" sz="3600" spc="-1" strike="noStrike">
                <a:solidFill>
                  <a:srgbClr val="046ca6"/>
                </a:solidFill>
                <a:latin typeface="华文新魏"/>
              </a:rPr>
              <a:t>与平滑肌无力及肠蠕动变慢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高钾血症</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协助患者满足其进食、卫生、如厕等日常生理需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经口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量正常：每日尿量需大于</a:t>
            </a:r>
            <a:r>
              <a:rPr b="0" lang="en-US" sz="3200" spc="-1" strike="noStrike">
                <a:solidFill>
                  <a:srgbClr val="046ca6"/>
                </a:solidFill>
                <a:latin typeface="华文新魏"/>
              </a:rPr>
              <a:t>600 ml</a:t>
            </a:r>
            <a:r>
              <a:rPr b="0" lang="zh-CN" sz="3200" spc="-1" strike="noStrike">
                <a:solidFill>
                  <a:srgbClr val="046ca6"/>
                </a:solidFill>
                <a:latin typeface="华文新魏"/>
              </a:rPr>
              <a:t>，或每小时尿量大于</a:t>
            </a:r>
            <a:r>
              <a:rPr b="0" lang="en-US" sz="3200" spc="-1" strike="noStrike">
                <a:solidFill>
                  <a:srgbClr val="046ca6"/>
                </a:solidFill>
                <a:latin typeface="华文新魏"/>
              </a:rPr>
              <a:t>3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浓度不高：静脉补液中钾的浓度不宜超过</a:t>
            </a:r>
            <a:r>
              <a:rPr b="0" lang="en-US" sz="3200" spc="-1" strike="noStrike">
                <a:solidFill>
                  <a:srgbClr val="046ca6"/>
                </a:solidFill>
                <a:latin typeface="华文新魏"/>
              </a:rPr>
              <a:t>40mmol/L(</a:t>
            </a:r>
            <a:r>
              <a:rPr b="0" lang="zh-CN" sz="3200" spc="-1" strike="noStrike">
                <a:solidFill>
                  <a:srgbClr val="046ca6"/>
                </a:solidFill>
                <a:latin typeface="华文新魏"/>
              </a:rPr>
              <a:t>相当于氯化钾</a:t>
            </a:r>
            <a:r>
              <a:rPr b="0" lang="en-US" sz="3200" spc="-1" strike="noStrike">
                <a:solidFill>
                  <a:srgbClr val="046ca6"/>
                </a:solidFill>
                <a:latin typeface="华文新魏"/>
              </a:rPr>
              <a:t>3g)</a:t>
            </a:r>
            <a:r>
              <a:rPr b="0" lang="zh-CN" sz="3200" spc="-1" strike="noStrike">
                <a:solidFill>
                  <a:srgbClr val="046ca6"/>
                </a:solidFill>
                <a:latin typeface="华文新魏"/>
              </a:rPr>
              <a:t>；禁止静脉推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速度勿快：速度不宜超过</a:t>
            </a:r>
            <a:r>
              <a:rPr b="0" lang="en-US" sz="3200" spc="-1" strike="noStrike">
                <a:solidFill>
                  <a:srgbClr val="046ca6"/>
                </a:solidFill>
                <a:latin typeface="华文新魏"/>
              </a:rPr>
              <a:t>20mmol/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量限制、严密监测</a:t>
            </a:r>
            <a:endParaRPr b="0" lang="en-US" sz="32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鼓励患者多饮水、进食富含纤维素的食物，给予腹部按摩，以保持排便通畅。出现便秘时，给予缓泻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患者的血钾情况、心率、心律、心电图以及意识状况，及时发现并发症发生</a:t>
            </a:r>
            <a:endParaRPr b="0" lang="en-US" sz="36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水和钠的代谢紊乱</a:t>
            </a:r>
            <a:endParaRPr b="0" lang="en-US" sz="3600" spc="-1" strike="noStrike">
              <a:solidFill>
                <a:srgbClr val="ffffff"/>
              </a:solidFill>
              <a:latin typeface="华文新魏"/>
            </a:endParaRPr>
          </a:p>
        </p:txBody>
      </p:sp>
      <p:sp>
        <p:nvSpPr>
          <p:cNvPr id="113" name=""/>
          <p:cNvSpPr txBox="1"/>
          <p:nvPr/>
        </p:nvSpPr>
        <p:spPr>
          <a:xfrm>
            <a:off x="-397080" y="1371240"/>
            <a:ext cx="9312120" cy="4876920"/>
          </a:xfrm>
          <a:prstGeom prst="rect">
            <a:avLst/>
          </a:prstGeom>
          <a:noFill/>
          <a:ln w="0">
            <a:noFill/>
          </a:ln>
        </p:spPr>
        <p:txBody>
          <a:bodyPr anchor="t">
            <a:normAutofit/>
          </a:bodyPr>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案例</a:t>
            </a:r>
            <a:r>
              <a:rPr b="0" lang="en-US" sz="2800" spc="-1" strike="noStrike">
                <a:solidFill>
                  <a:srgbClr val="046ca6"/>
                </a:solidFill>
                <a:latin typeface="华文新魏"/>
              </a:rPr>
              <a:t>2-1</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0</a:t>
            </a:r>
            <a:r>
              <a:rPr b="0" lang="zh-CN" sz="2800" spc="-1" strike="noStrike">
                <a:solidFill>
                  <a:srgbClr val="046ca6"/>
                </a:solidFill>
                <a:latin typeface="华文新魏"/>
              </a:rPr>
              <a:t>岁，体重</a:t>
            </a:r>
            <a:r>
              <a:rPr b="0" lang="en-US" sz="2800" spc="-1" strike="noStrike">
                <a:solidFill>
                  <a:srgbClr val="046ca6"/>
                </a:solidFill>
                <a:latin typeface="华文新魏"/>
              </a:rPr>
              <a:t>60kg</a:t>
            </a:r>
            <a:r>
              <a:rPr b="0" lang="zh-CN" sz="2800" spc="-1" strike="noStrike">
                <a:solidFill>
                  <a:srgbClr val="046ca6"/>
                </a:solidFill>
                <a:latin typeface="华文新魏"/>
              </a:rPr>
              <a:t>。因食管癌进食困难</a:t>
            </a:r>
            <a:r>
              <a:rPr b="0" lang="en-US" sz="2800" spc="-1" strike="noStrike">
                <a:solidFill>
                  <a:srgbClr val="046ca6"/>
                </a:solidFill>
                <a:latin typeface="华文新魏"/>
              </a:rPr>
              <a:t>1</a:t>
            </a:r>
            <a:r>
              <a:rPr b="0" lang="zh-CN" sz="2800" spc="-1" strike="noStrike">
                <a:solidFill>
                  <a:srgbClr val="046ca6"/>
                </a:solidFill>
                <a:latin typeface="华文新魏"/>
              </a:rPr>
              <a:t>个月余，主诉乏力，极度口渴，尿少而色深。</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9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血压</a:t>
            </a:r>
            <a:r>
              <a:rPr b="0" lang="en-US" sz="2800" spc="-1" strike="noStrike">
                <a:solidFill>
                  <a:srgbClr val="046ca6"/>
                </a:solidFill>
                <a:latin typeface="华文新魏"/>
              </a:rPr>
              <a:t> </a:t>
            </a:r>
            <a:r>
              <a:rPr b="0" lang="en-US" sz="2800" spc="-1" strike="noStrike">
                <a:solidFill>
                  <a:srgbClr val="046ca6"/>
                </a:solidFill>
                <a:latin typeface="华文新魏"/>
              </a:rPr>
              <a:t>80/50mmHg</a:t>
            </a:r>
            <a:r>
              <a:rPr b="0" lang="zh-CN" sz="2800" spc="-1" strike="noStrike">
                <a:solidFill>
                  <a:srgbClr val="046ca6"/>
                </a:solidFill>
                <a:latin typeface="华文新魏"/>
              </a:rPr>
              <a:t>。眼窝凹陷，口舌干燥，皮肤弹性差。</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①该患者可能出现的水、电解质紊乱类型是什么？</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②</a:t>
            </a:r>
            <a:r>
              <a:rPr b="0" lang="zh-CN" sz="2800" spc="-1" strike="noStrike">
                <a:solidFill>
                  <a:srgbClr val="046ca6"/>
                </a:solidFill>
                <a:latin typeface="华文新魏"/>
              </a:rPr>
              <a:t>应如何处理？</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③</a:t>
            </a:r>
            <a:r>
              <a:rPr b="0" lang="zh-CN" sz="2800" spc="-1" strike="noStrike">
                <a:solidFill>
                  <a:srgbClr val="046ca6"/>
                </a:solidFill>
                <a:latin typeface="华文新魏"/>
              </a:rPr>
              <a:t>患者目前主要的护理诊断</a:t>
            </a:r>
            <a:r>
              <a:rPr b="0" lang="en-US" sz="2800" spc="-1" strike="noStrike">
                <a:solidFill>
                  <a:srgbClr val="046ca6"/>
                </a:solidFill>
                <a:latin typeface="华文新魏"/>
              </a:rPr>
              <a:t>/</a:t>
            </a:r>
            <a:r>
              <a:rPr b="0" lang="zh-CN" sz="2800" spc="-1" strike="noStrike">
                <a:solidFill>
                  <a:srgbClr val="046ca6"/>
                </a:solidFill>
                <a:latin typeface="华文新魏"/>
              </a:rPr>
              <a:t>问题有哪些？</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hyperkalemia</a:t>
            </a:r>
            <a:r>
              <a:rPr b="0" lang="zh-CN" sz="4000" spc="-1" strike="noStrike">
                <a:solidFill>
                  <a:srgbClr val="046ca6"/>
                </a:solidFill>
                <a:latin typeface="华文新魏"/>
              </a:rPr>
              <a:t>）是指血清钾浓度高于</a:t>
            </a:r>
            <a:r>
              <a:rPr b="0" lang="en-US" sz="4000" spc="-1" strike="noStrike">
                <a:solidFill>
                  <a:srgbClr val="046ca6"/>
                </a:solidFill>
                <a:latin typeface="华文新魏"/>
              </a:rPr>
              <a:t>5.5 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摄入过多</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排出减少</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分布异常</a:t>
            </a:r>
            <a:endParaRPr b="0" lang="en-US" sz="36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无特异性症状，仅有心电图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肌肉传导障碍</a:t>
            </a:r>
            <a:endParaRPr b="0" lang="en-US" sz="32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钾高于</a:t>
            </a:r>
            <a:r>
              <a:rPr b="0" lang="en-US" sz="3200" spc="-1" strike="noStrike">
                <a:solidFill>
                  <a:srgbClr val="046ca6"/>
                </a:solidFill>
                <a:latin typeface="华文新魏"/>
              </a:rPr>
              <a:t>5.5 mmol/L</a:t>
            </a:r>
            <a:r>
              <a:rPr b="0" lang="zh-CN" sz="3200" spc="-1" strike="noStrike">
                <a:solidFill>
                  <a:srgbClr val="046ca6"/>
                </a:solidFill>
                <a:latin typeface="华文新魏"/>
              </a:rPr>
              <a:t>。典型心电图改变为</a:t>
            </a:r>
            <a:r>
              <a:rPr b="0" lang="en-US" sz="3200" spc="-1" strike="noStrike">
                <a:solidFill>
                  <a:srgbClr val="046ca6"/>
                </a:solidFill>
                <a:latin typeface="华文新魏"/>
              </a:rPr>
              <a:t>T</a:t>
            </a:r>
            <a:r>
              <a:rPr b="0" lang="zh-CN" sz="3200" spc="-1" strike="noStrike">
                <a:solidFill>
                  <a:srgbClr val="046ca6"/>
                </a:solidFill>
                <a:latin typeface="华文新魏"/>
              </a:rPr>
              <a:t>波高尖，</a:t>
            </a:r>
            <a:r>
              <a:rPr b="0" lang="en-US" sz="3200" spc="-1" strike="noStrike">
                <a:solidFill>
                  <a:srgbClr val="046ca6"/>
                </a:solidFill>
                <a:latin typeface="华文新魏"/>
              </a:rPr>
              <a:t>Q-T</a:t>
            </a:r>
            <a:r>
              <a:rPr b="0" lang="zh-CN" sz="3200" spc="-1" strike="noStrike">
                <a:solidFill>
                  <a:srgbClr val="046ca6"/>
                </a:solidFill>
                <a:latin typeface="华文新魏"/>
              </a:rPr>
              <a:t>间期延长，随后</a:t>
            </a:r>
            <a:r>
              <a:rPr b="0" lang="en-US" sz="3200" spc="-1" strike="noStrike">
                <a:solidFill>
                  <a:srgbClr val="046ca6"/>
                </a:solidFill>
                <a:latin typeface="华文新魏"/>
              </a:rPr>
              <a:t>QRS</a:t>
            </a:r>
            <a:r>
              <a:rPr b="0" lang="zh-CN" sz="3200" spc="-1" strike="noStrike">
                <a:solidFill>
                  <a:srgbClr val="046ca6"/>
                </a:solidFill>
                <a:latin typeface="华文新魏"/>
              </a:rPr>
              <a:t>波增宽，</a:t>
            </a:r>
            <a:r>
              <a:rPr b="0" lang="en-US" sz="3200" spc="-1" strike="noStrike">
                <a:solidFill>
                  <a:srgbClr val="046ca6"/>
                </a:solidFill>
                <a:latin typeface="华文新魏"/>
              </a:rPr>
              <a:t>P-R</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0" name="Picture 2" descr=""/>
          <p:cNvPicPr/>
          <p:nvPr/>
        </p:nvPicPr>
        <p:blipFill>
          <a:blip r:embed="rId1"/>
          <a:stretch/>
        </p:blipFill>
        <p:spPr>
          <a:xfrm>
            <a:off x="1547640" y="4581360"/>
            <a:ext cx="5865840" cy="1656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进食和用药情况，注意肾功能状况，评估疾病史有无休克、损伤、中毒等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及家属对疾病及伴随症状的认识程度及适应能力</a:t>
            </a: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病因</a:t>
            </a:r>
            <a:r>
              <a:rPr b="0" lang="en-US" sz="3200" spc="-1" strike="noStrike">
                <a:solidFill>
                  <a:srgbClr val="046ca6"/>
                </a:solidFill>
                <a:latin typeface="华文新魏"/>
              </a:rPr>
              <a:t>  </a:t>
            </a: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钾</a:t>
            </a:r>
            <a:r>
              <a:rPr b="0" lang="en-US" sz="3200" spc="-1" strike="noStrike">
                <a:solidFill>
                  <a:srgbClr val="046ca6"/>
                </a:solidFill>
                <a:latin typeface="华文新魏"/>
              </a:rPr>
              <a:t>  </a:t>
            </a:r>
            <a:r>
              <a:rPr b="0" lang="zh-CN" sz="3200" spc="-1" strike="noStrike">
                <a:solidFill>
                  <a:srgbClr val="046ca6"/>
                </a:solidFill>
                <a:latin typeface="华文新魏"/>
              </a:rPr>
              <a:t>停用一切含钾的药物和溶液，避免进食含钾高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转入细胞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排泄</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抗心律失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慢静脉推注</a:t>
            </a:r>
            <a:r>
              <a:rPr b="0" lang="en-US" sz="2800" spc="-1" strike="noStrike">
                <a:solidFill>
                  <a:srgbClr val="046ca6"/>
                </a:solidFill>
                <a:latin typeface="华文新魏"/>
              </a:rPr>
              <a:t>10%</a:t>
            </a:r>
            <a:r>
              <a:rPr b="0" lang="zh-CN" sz="2800" spc="-1" strike="noStrike">
                <a:solidFill>
                  <a:srgbClr val="046ca6"/>
                </a:solidFill>
                <a:latin typeface="华文新魏"/>
              </a:rPr>
              <a:t>葡萄糖酸钙</a:t>
            </a:r>
            <a:r>
              <a:rPr b="0" lang="en-US" sz="2800" spc="-1" strike="noStrike">
                <a:solidFill>
                  <a:srgbClr val="046ca6"/>
                </a:solidFill>
                <a:latin typeface="华文新魏"/>
              </a:rPr>
              <a:t>20ml</a:t>
            </a:r>
            <a:endParaRPr b="0" lang="en-US" sz="28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高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心搏骤停</a:t>
            </a:r>
            <a:endParaRPr b="0" lang="en-US" sz="36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纠正高钾血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用含钾药物，避免进食含钾丰富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应用对抗心律失常及降低血钾的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透析患者的护理</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和治疗并发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监测患者血钾、心脏及心电图的变化</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发生心律失常立即通知医生，并协助治疗，心搏骤停者立即施行心肺脑复苏</a:t>
            </a:r>
            <a:endParaRPr b="0" lang="en-US" sz="32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告知肾功能不全和长期应用留钾利尿剂的患者，需限制含钾食物和药物的摄入，定期监测血钾浓度</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276640"/>
            <a:ext cx="6121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一、等渗性缺水</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钙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钙血症</a:t>
            </a:r>
            <a:br>
              <a:rPr sz="6000"/>
            </a:b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钙血症（</a:t>
            </a:r>
            <a:r>
              <a:rPr b="0" lang="en-US" sz="3600" spc="-1" strike="noStrike">
                <a:solidFill>
                  <a:srgbClr val="046ca6"/>
                </a:solidFill>
                <a:latin typeface="华文新魏"/>
              </a:rPr>
              <a:t>hypocalcemia</a:t>
            </a:r>
            <a:r>
              <a:rPr b="0" lang="zh-CN" sz="3600" spc="-1" strike="noStrike">
                <a:solidFill>
                  <a:srgbClr val="046ca6"/>
                </a:solidFill>
                <a:latin typeface="华文新魏"/>
              </a:rPr>
              <a:t>）是指血清蛋白浓度正常时，血清钙浓度低于</a:t>
            </a:r>
            <a:r>
              <a:rPr b="0" lang="en-US" sz="3600" spc="-1" strike="noStrike">
                <a:solidFill>
                  <a:srgbClr val="046ca6"/>
                </a:solidFill>
                <a:latin typeface="华文新魏"/>
              </a:rPr>
              <a:t>2.25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维生素</a:t>
            </a:r>
            <a:r>
              <a:rPr b="0" lang="en-US" sz="3600" spc="-1" strike="noStrike">
                <a:solidFill>
                  <a:srgbClr val="046ca6"/>
                </a:solidFill>
                <a:latin typeface="华文新魏"/>
              </a:rPr>
              <a:t>D</a:t>
            </a:r>
            <a:r>
              <a:rPr b="0" lang="zh-CN" sz="3600" spc="-1" strike="noStrike">
                <a:solidFill>
                  <a:srgbClr val="046ca6"/>
                </a:solidFill>
                <a:latin typeface="华文新魏"/>
              </a:rPr>
              <a:t>摄入不足、甲状旁腺功能减退或受损、慢性肾衰竭等、急性重型胰腺炎、坏死性筋膜炎、消化道瘘患者也可发生</a:t>
            </a:r>
            <a:endParaRPr b="0" lang="en-US" sz="3600" spc="-1" strike="noStrike">
              <a:solidFill>
                <a:srgbClr val="046ca6"/>
              </a:solidFill>
              <a:latin typeface="华文新魏"/>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为易激动、口周和指（趾）尖麻木及针刺感、手足抽搐、肌肉疼痛、腱反射亢进，</a:t>
            </a:r>
            <a:r>
              <a:rPr b="0" lang="en-US" sz="3600" spc="-1" strike="noStrike">
                <a:solidFill>
                  <a:srgbClr val="046ca6"/>
                </a:solidFill>
                <a:latin typeface="华文新魏"/>
              </a:rPr>
              <a:t>Chvostek</a:t>
            </a:r>
            <a:r>
              <a:rPr b="0" lang="zh-CN" sz="3600" spc="-1" strike="noStrike">
                <a:solidFill>
                  <a:srgbClr val="046ca6"/>
                </a:solidFill>
                <a:latin typeface="华文新魏"/>
              </a:rPr>
              <a:t>征及</a:t>
            </a:r>
            <a:r>
              <a:rPr b="0" lang="en-US" sz="3600" spc="-1" strike="noStrike">
                <a:solidFill>
                  <a:srgbClr val="046ca6"/>
                </a:solidFill>
                <a:latin typeface="华文新魏"/>
              </a:rPr>
              <a:t>Trousseau</a:t>
            </a:r>
            <a:r>
              <a:rPr b="0" lang="zh-CN" sz="3600" spc="-1" strike="noStrike">
                <a:solidFill>
                  <a:srgbClr val="046ca6"/>
                </a:solidFill>
                <a:latin typeface="华文新魏"/>
              </a:rPr>
              <a:t>征阳性</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在处理原发疾病的基础上，给予补充钙剂和维生素</a:t>
            </a:r>
            <a:r>
              <a:rPr b="0" lang="en-US" sz="3600" spc="-1" strike="noStrike">
                <a:solidFill>
                  <a:srgbClr val="046ca6"/>
                </a:solidFill>
                <a:latin typeface="华文新魏"/>
              </a:rPr>
              <a:t>D</a:t>
            </a:r>
            <a:endParaRPr b="0" lang="en-US" sz="3600" spc="-1" strike="noStrike">
              <a:solidFill>
                <a:srgbClr val="046ca6"/>
              </a:solidFill>
              <a:latin typeface="华文新魏"/>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低钙血症导致的手足抽搐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正确补充钙剂及维生素</a:t>
            </a:r>
            <a:r>
              <a:rPr b="0" lang="en-US" sz="3200" spc="-1" strike="noStrike">
                <a:solidFill>
                  <a:srgbClr val="046ca6"/>
                </a:solidFill>
                <a:latin typeface="华文新魏"/>
              </a:rPr>
              <a:t>D</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输注钙剂时速度要慢，以免造成血压过低或心律不齐</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局部渗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可与碳酸盐及磷酸盐类溶液混合使用，以防发生沉淀</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低血钙会累及呼吸肌，做好抢救准备，防止意外发生</a:t>
            </a:r>
            <a:endParaRPr b="0" lang="en-US" sz="3200" spc="-1" strike="noStrike">
              <a:solidFill>
                <a:srgbClr val="046ca6"/>
              </a:solidFill>
              <a:latin typeface="华文新魏"/>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钙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钙血症（</a:t>
            </a:r>
            <a:r>
              <a:rPr b="0" lang="en-US" sz="4000" spc="-1" strike="noStrike">
                <a:solidFill>
                  <a:srgbClr val="046ca6"/>
                </a:solidFill>
                <a:latin typeface="华文新魏"/>
              </a:rPr>
              <a:t>hypercalcemia</a:t>
            </a:r>
            <a:r>
              <a:rPr b="0" lang="zh-CN" sz="4000" spc="-1" strike="noStrike">
                <a:solidFill>
                  <a:srgbClr val="046ca6"/>
                </a:solidFill>
                <a:latin typeface="华文新魏"/>
              </a:rPr>
              <a:t>）是指血清蛋白正常时，血清钙浓度高于</a:t>
            </a:r>
            <a:r>
              <a:rPr b="0" lang="en-US" sz="4000" spc="-1" strike="noStrike">
                <a:solidFill>
                  <a:srgbClr val="046ca6"/>
                </a:solidFill>
                <a:latin typeface="华文新魏"/>
              </a:rPr>
              <a:t>2.75mmol/L</a:t>
            </a:r>
            <a:r>
              <a:rPr b="0" lang="zh-CN" sz="4000" spc="-1" strike="noStrike">
                <a:solidFill>
                  <a:srgbClr val="046ca6"/>
                </a:solidFill>
                <a:latin typeface="华文新魏"/>
              </a:rPr>
              <a:t>。见于甲状旁腺功能亢进症、骨转移性癌等</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早期症状有疲乏、畏食、恶心、呕吐和体重下降。严重者可出现心律失常，血清钙浓度高达</a:t>
            </a:r>
            <a:r>
              <a:rPr b="0" lang="en-US" sz="3600" spc="-1" strike="noStrike">
                <a:solidFill>
                  <a:srgbClr val="046ca6"/>
                </a:solidFill>
                <a:latin typeface="华文新魏"/>
              </a:rPr>
              <a:t>4</a:t>
            </a:r>
            <a:r>
              <a:rPr b="0" lang="zh-CN" sz="3600" spc="-1" strike="noStrike">
                <a:solidFill>
                  <a:srgbClr val="046ca6"/>
                </a:solidFill>
                <a:latin typeface="华文新魏"/>
              </a:rPr>
              <a:t>～</a:t>
            </a:r>
            <a:r>
              <a:rPr b="0" lang="en-US" sz="3600" spc="-1" strike="noStrike">
                <a:solidFill>
                  <a:srgbClr val="046ca6"/>
                </a:solidFill>
                <a:latin typeface="华文新魏"/>
              </a:rPr>
              <a:t>5mmol/L</a:t>
            </a:r>
            <a:r>
              <a:rPr b="0" lang="zh-CN" sz="3600" spc="-1" strike="noStrike">
                <a:solidFill>
                  <a:srgbClr val="046ca6"/>
                </a:solidFill>
                <a:latin typeface="华文新魏"/>
              </a:rPr>
              <a:t>时可危及生命</a:t>
            </a:r>
            <a:endParaRPr b="0" lang="en-US" sz="36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便秘</a:t>
            </a:r>
            <a:r>
              <a:rPr b="0" lang="en-US" sz="3600" spc="-1" strike="noStrike">
                <a:solidFill>
                  <a:srgbClr val="046ca6"/>
                </a:solidFill>
                <a:latin typeface="华文新魏"/>
              </a:rPr>
              <a:t>  </a:t>
            </a:r>
            <a:r>
              <a:rPr b="0" lang="zh-CN" sz="3600" spc="-1" strike="noStrike">
                <a:solidFill>
                  <a:srgbClr val="046ca6"/>
                </a:solidFill>
                <a:latin typeface="华文新魏"/>
              </a:rPr>
              <a:t>与高钙血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心律失常。</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和钠等比例丢失，血清钠和血浆渗透压保持在正常范围，又称急性缺水或混合型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呕吐、肠瘘等造成消化液的急性丢失，或急性腹膜炎、急性肠梗阻、大面积烧伤等造成体液丧失</a:t>
            </a:r>
            <a:endParaRPr b="0" lang="en-US" sz="32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血清钙的变化</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导患者采取低钙饮食，遵医嘱补液，鼓励患者多饮水，以促进钙排出</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多食粗纤维食物，避免便秘，严重者给予灌肠或导泻</a:t>
            </a:r>
            <a:endParaRPr b="0" lang="en-US" sz="36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镁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镁血症（</a:t>
            </a:r>
            <a:r>
              <a:rPr b="0" lang="en-US" sz="4000" spc="-1" strike="noStrike">
                <a:solidFill>
                  <a:srgbClr val="046ca6"/>
                </a:solidFill>
                <a:latin typeface="华文新魏"/>
              </a:rPr>
              <a:t>hypomagnesemia</a:t>
            </a:r>
            <a:r>
              <a:rPr b="0" lang="zh-CN" sz="4000" spc="-1" strike="noStrike">
                <a:solidFill>
                  <a:srgbClr val="046ca6"/>
                </a:solidFill>
                <a:latin typeface="华文新魏"/>
              </a:rPr>
              <a:t>）是指血清镁浓度低于</a:t>
            </a:r>
            <a:r>
              <a:rPr b="0" lang="en-US" sz="4000" spc="-1" strike="noStrike">
                <a:solidFill>
                  <a:srgbClr val="046ca6"/>
                </a:solidFill>
                <a:latin typeface="华文新魏"/>
              </a:rPr>
              <a:t>0.75mmol/L</a:t>
            </a:r>
            <a:r>
              <a:rPr b="0" lang="zh-CN" sz="4000" spc="-1" strike="noStrike">
                <a:solidFill>
                  <a:srgbClr val="046ca6"/>
                </a:solidFill>
                <a:latin typeface="华文新魏"/>
              </a:rPr>
              <a:t>。进食不足及长期消化液严重丢失、吸收障碍等是造成低镁血症的主要原因。镁缺乏常伴有钾和钙的缺乏</a:t>
            </a:r>
            <a:endParaRPr b="0" lang="en-US" sz="4000" spc="-1" strike="noStrike">
              <a:solidFill>
                <a:srgbClr val="046ca6"/>
              </a:solidFill>
              <a:latin typeface="华文新魏"/>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系统和肌肉功能亢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镁降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电图表现为</a:t>
            </a:r>
            <a:r>
              <a:rPr b="0" lang="en-US" sz="3200" spc="-1" strike="noStrike">
                <a:solidFill>
                  <a:srgbClr val="046ca6"/>
                </a:solidFill>
                <a:latin typeface="华文新魏"/>
              </a:rPr>
              <a:t>Q-T</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镁负荷试验阳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镁减少</a:t>
            </a:r>
            <a:endParaRPr b="0" lang="en-US" sz="3200" spc="-1" strike="noStrike">
              <a:solidFill>
                <a:srgbClr val="046ca6"/>
              </a:solidFill>
              <a:latin typeface="华文新魏"/>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轻者口服镁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重者静脉输注硫酸镁溶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若经肌内注射补充，应注意深部注射</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同时补钾和钙</a:t>
            </a:r>
            <a:endParaRPr b="0" lang="en-US" sz="3600" spc="-1" strike="noStrike">
              <a:solidFill>
                <a:srgbClr val="046ca6"/>
              </a:solidFill>
              <a:latin typeface="华文新魏"/>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镁血症（</a:t>
            </a:r>
            <a:r>
              <a:rPr b="0" lang="en-US" sz="4000" spc="-1" strike="noStrike">
                <a:solidFill>
                  <a:srgbClr val="046ca6"/>
                </a:solidFill>
                <a:latin typeface="华文新魏"/>
              </a:rPr>
              <a:t>hypermagnesemia</a:t>
            </a:r>
            <a:r>
              <a:rPr b="0" lang="zh-CN" sz="4000" spc="-1" strike="noStrike">
                <a:solidFill>
                  <a:srgbClr val="046ca6"/>
                </a:solidFill>
                <a:latin typeface="华文新魏"/>
              </a:rPr>
              <a:t>）是指血清镁浓度高于</a:t>
            </a:r>
            <a:r>
              <a:rPr b="0" lang="en-US" sz="4000" spc="-1" strike="noStrike">
                <a:solidFill>
                  <a:srgbClr val="046ca6"/>
                </a:solidFill>
                <a:latin typeface="华文新魏"/>
              </a:rPr>
              <a:t>1.25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发生于肾功能不全时。另外，烧伤早期、广泛性外伤或外科应激反应、严重细胞外液量不足和严重酸中毒可导致血清镁增高</a:t>
            </a:r>
            <a:endParaRPr b="0" lang="en-US" sz="40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腱反射消失、血压下降等，严重者可发生呼吸肌麻痹和心搏骤停</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电图改变与高钾血症相似</a:t>
            </a:r>
            <a:endParaRPr b="0" lang="en-US" sz="36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停止给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经静脉缓慢注射葡萄糖酸钙或氯化钙溶液，以对抗镁对心肌的抑制作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同时纠正酸中毒、补充血容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必要时行透析治疗</a:t>
            </a:r>
            <a:endParaRPr b="0" lang="en-US" sz="36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表现</a:t>
            </a:r>
            <a:r>
              <a:rPr b="0" lang="en-US" sz="3200" spc="-1" strike="noStrike">
                <a:solidFill>
                  <a:srgbClr val="046ca6"/>
                </a:solidFill>
                <a:latin typeface="华文新魏"/>
              </a:rPr>
              <a:t>  </a:t>
            </a:r>
            <a:r>
              <a:rPr b="0" lang="zh-CN" sz="3200" spc="-1" strike="noStrike">
                <a:solidFill>
                  <a:srgbClr val="046ca6"/>
                </a:solidFill>
                <a:latin typeface="华文新魏"/>
              </a:rPr>
              <a:t>皮肤、黏膜干燥，眼窝凹陷，尿少，通常不口渴或口渴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钠表现</a:t>
            </a:r>
            <a:r>
              <a:rPr b="0" lang="en-US" sz="3200" spc="-1" strike="noStrike">
                <a:solidFill>
                  <a:srgbClr val="046ca6"/>
                </a:solidFill>
                <a:latin typeface="华文新魏"/>
              </a:rPr>
              <a:t>  </a:t>
            </a:r>
            <a:r>
              <a:rPr b="0" lang="zh-CN" sz="3200" spc="-1" strike="noStrike">
                <a:solidFill>
                  <a:srgbClr val="046ca6"/>
                </a:solidFill>
                <a:latin typeface="华文新魏"/>
              </a:rPr>
              <a:t>畏食、恶心、软弱乏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并酸碱平衡失调</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五节</a:t>
            </a:r>
            <a:r>
              <a:rPr b="0" lang="en-US" sz="6000" spc="-1" strike="noStrike">
                <a:solidFill>
                  <a:srgbClr val="ffffff"/>
                </a:solidFill>
                <a:latin typeface="华文新魏"/>
              </a:rPr>
              <a:t>  </a:t>
            </a:r>
            <a:r>
              <a:rPr b="0" lang="zh-CN" sz="6000" spc="-1" strike="noStrike">
                <a:solidFill>
                  <a:srgbClr val="ffffff"/>
                </a:solidFill>
                <a:latin typeface="华文新魏"/>
              </a:rPr>
              <a:t>磷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磷血症（</a:t>
            </a:r>
            <a:r>
              <a:rPr b="0" lang="en-US" sz="4000" spc="-1" strike="noStrike">
                <a:solidFill>
                  <a:srgbClr val="046ca6"/>
                </a:solidFill>
                <a:latin typeface="华文新魏"/>
              </a:rPr>
              <a:t>hypophosphatemia</a:t>
            </a:r>
            <a:r>
              <a:rPr b="0" lang="zh-CN" sz="4000" spc="-1" strike="noStrike">
                <a:solidFill>
                  <a:srgbClr val="046ca6"/>
                </a:solidFill>
                <a:latin typeface="华文新魏"/>
              </a:rPr>
              <a:t>） 是指血清磷浓度小于</a:t>
            </a:r>
            <a:r>
              <a:rPr b="0" lang="en-US" sz="4000" spc="-1" strike="noStrike">
                <a:solidFill>
                  <a:srgbClr val="046ca6"/>
                </a:solidFill>
                <a:latin typeface="华文新魏"/>
              </a:rPr>
              <a:t>0.96 mmol/L</a:t>
            </a:r>
            <a:r>
              <a:rPr b="0" lang="zh-CN" sz="4000" spc="-1" strike="noStrike">
                <a:solidFill>
                  <a:srgbClr val="046ca6"/>
                </a:solidFill>
                <a:latin typeface="华文新魏"/>
              </a:rPr>
              <a:t>。见于磷摄入不足、甲状旁腺功能亢进症、严重烧伤或感染、大量输入葡萄糖及胰岛素等</a:t>
            </a:r>
            <a:endParaRPr b="0" lang="en-US" sz="4000" spc="-1" strike="noStrike">
              <a:solidFill>
                <a:srgbClr val="046ca6"/>
              </a:solidFill>
              <a:latin typeface="华文新魏"/>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缺乏特异性，可有头晕、畏食、肌无力等神经肌肉症状，重者可有抽搐、精神错乱、昏迷甚至呼吸肌无力而危及生命</a:t>
            </a:r>
            <a:endParaRPr b="0" lang="en-US" sz="3600" spc="-1" strike="noStrike">
              <a:solidFill>
                <a:srgbClr val="046ca6"/>
              </a:solidFill>
              <a:latin typeface="华文新魏"/>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处理原发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采取预防措施，如长期输液者，应在溶液中补充磷</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监测血清磷水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磷血症（</a:t>
            </a:r>
            <a:r>
              <a:rPr b="0" lang="en-US" sz="3600" spc="-1" strike="noStrike">
                <a:solidFill>
                  <a:srgbClr val="046ca6"/>
                </a:solidFill>
                <a:latin typeface="华文新魏"/>
              </a:rPr>
              <a:t>hyperphosphatemia</a:t>
            </a:r>
            <a:r>
              <a:rPr b="0" lang="zh-CN" sz="3600" spc="-1" strike="noStrike">
                <a:solidFill>
                  <a:srgbClr val="046ca6"/>
                </a:solidFill>
                <a:latin typeface="华文新魏"/>
              </a:rPr>
              <a:t>） 是指血清磷高于</a:t>
            </a:r>
            <a:r>
              <a:rPr b="0" lang="en-US" sz="3600" spc="-1" strike="noStrike">
                <a:solidFill>
                  <a:srgbClr val="046ca6"/>
                </a:solidFill>
                <a:latin typeface="华文新魏"/>
              </a:rPr>
              <a:t>1.62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见于急性肾衰竭、甲状旁腺功能低下、酸中毒等</a:t>
            </a:r>
            <a:endParaRPr b="0" lang="en-US" sz="36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不典型，主要出现低钙血症的症状。</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除处理病因外，应针对低钙血症进行处理。可利尿加快磷的排出；服用能与磷结合的抗酸剂，如氢氧化铝凝胶；部分患者需用透析治疗。</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6560" y="2276640"/>
            <a:ext cx="770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六节</a:t>
            </a:r>
            <a:r>
              <a:rPr b="0" lang="en-US" sz="6000" spc="-1" strike="noStrike">
                <a:solidFill>
                  <a:srgbClr val="ffffff"/>
                </a:solidFill>
                <a:latin typeface="华文新魏"/>
              </a:rPr>
              <a:t>  </a:t>
            </a:r>
            <a:r>
              <a:rPr b="0" lang="zh-CN" sz="6000" spc="-1" strike="noStrike">
                <a:solidFill>
                  <a:srgbClr val="ffffff"/>
                </a:solidFill>
                <a:latin typeface="华文新魏"/>
              </a:rPr>
              <a:t>酸碱平衡失调</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60" name=""/>
          <p:cNvSpPr txBox="1"/>
          <p:nvPr/>
        </p:nvSpPr>
        <p:spPr>
          <a:xfrm>
            <a:off x="304920" y="1371240"/>
            <a:ext cx="8610480" cy="4876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案例</a:t>
            </a:r>
            <a:r>
              <a:rPr b="0" lang="en-US" sz="3600" spc="-1" strike="noStrike">
                <a:solidFill>
                  <a:srgbClr val="046ca6"/>
                </a:solidFill>
                <a:latin typeface="华文新魏"/>
              </a:rPr>
              <a:t>2-3</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70</a:t>
            </a:r>
            <a:r>
              <a:rPr b="0" lang="zh-CN" sz="3600" spc="-1" strike="noStrike">
                <a:solidFill>
                  <a:srgbClr val="046ca6"/>
                </a:solidFill>
                <a:latin typeface="华文新魏"/>
              </a:rPr>
              <a:t>岁，吸烟</a:t>
            </a:r>
            <a:r>
              <a:rPr b="0" lang="en-US" sz="3600" spc="-1" strike="noStrike">
                <a:solidFill>
                  <a:srgbClr val="046ca6"/>
                </a:solidFill>
                <a:latin typeface="华文新魏"/>
              </a:rPr>
              <a:t>45</a:t>
            </a:r>
            <a:r>
              <a:rPr b="0" lang="zh-CN" sz="3600" spc="-1" strike="noStrike">
                <a:solidFill>
                  <a:srgbClr val="046ca6"/>
                </a:solidFill>
                <a:latin typeface="华文新魏"/>
              </a:rPr>
              <a:t>年，慢性阻塞性肺气肿</a:t>
            </a:r>
            <a:r>
              <a:rPr b="0" lang="en-US" sz="3600" spc="-1" strike="noStrike">
                <a:solidFill>
                  <a:srgbClr val="046ca6"/>
                </a:solidFill>
                <a:latin typeface="华文新魏"/>
              </a:rPr>
              <a:t>10</a:t>
            </a:r>
            <a:r>
              <a:rPr b="0" lang="zh-CN" sz="3600" spc="-1" strike="noStrike">
                <a:solidFill>
                  <a:srgbClr val="046ca6"/>
                </a:solidFill>
                <a:latin typeface="华文新魏"/>
              </a:rPr>
              <a:t>年。因胸闷、气促伴胸痛就诊。</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血气分析：</a:t>
            </a:r>
            <a:r>
              <a:rPr b="0" lang="en-US" sz="3600" spc="-1" strike="noStrike">
                <a:solidFill>
                  <a:srgbClr val="046ca6"/>
                </a:solidFill>
                <a:latin typeface="华文新魏"/>
              </a:rPr>
              <a:t>pH 7.32</a:t>
            </a:r>
            <a:r>
              <a:rPr b="0" lang="zh-CN" sz="3600" spc="-1" strike="noStrike">
                <a:solidFill>
                  <a:srgbClr val="046ca6"/>
                </a:solidFill>
                <a:latin typeface="华文新魏"/>
              </a:rPr>
              <a:t>，</a:t>
            </a:r>
            <a:r>
              <a:rPr b="0" lang="en-US" sz="3600" spc="-1" strike="noStrike">
                <a:solidFill>
                  <a:srgbClr val="046ca6"/>
                </a:solidFill>
                <a:latin typeface="华文新魏"/>
              </a:rPr>
              <a:t>PaCO</a:t>
            </a:r>
            <a:r>
              <a:rPr b="0" lang="en-US" sz="3600" spc="-1" strike="noStrike" baseline="-25000">
                <a:solidFill>
                  <a:srgbClr val="046ca6"/>
                </a:solidFill>
                <a:latin typeface="华文新魏"/>
              </a:rPr>
              <a:t>2 </a:t>
            </a:r>
            <a:r>
              <a:rPr b="0" lang="en-US" sz="3600" spc="-1" strike="noStrike">
                <a:solidFill>
                  <a:srgbClr val="046ca6"/>
                </a:solidFill>
                <a:latin typeface="华文新魏"/>
              </a:rPr>
              <a:t>70 mmHg</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en-US" sz="3600" spc="-1" strike="noStrike">
                <a:solidFill>
                  <a:srgbClr val="046ca6"/>
                </a:solidFill>
                <a:latin typeface="华文新魏"/>
              </a:rPr>
              <a:t>24 mmol/L</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电图示：心室颤动。</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出现了什么情况？</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②</a:t>
            </a:r>
            <a:r>
              <a:rPr b="0" lang="zh-CN" sz="3600" spc="-1" strike="noStrike">
                <a:solidFill>
                  <a:srgbClr val="046ca6"/>
                </a:solidFill>
                <a:latin typeface="华文新魏"/>
              </a:rPr>
              <a:t>如何处理？</a:t>
            </a:r>
            <a:endParaRPr b="0" lang="en-US" sz="3600" spc="-1" strike="noStrike">
              <a:solidFill>
                <a:srgbClr val="046ca6"/>
              </a:solidFill>
              <a:latin typeface="华文新魏"/>
            </a:endParaRPr>
          </a:p>
        </p:txBody>
      </p:sp>
      <p:sp>
        <p:nvSpPr>
          <p:cNvPr id="3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0T13:46:15Z</dcterms:modified>
  <cp:revision>107</cp:revision>
  <dc:subject/>
  <dc:title>内科护理学</dc:title>
</cp:coreProperties>
</file>